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149E-5775-448B-877F-F616A4BD5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E0FF-A2AC-4A68-8ED4-7715D4B7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23BB2C-8F03-48A8-87EF-47106606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1347D4-52E7-46CD-A9DF-6D63632E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D522C2-5DCD-413E-A988-7DEC288D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617EE8-3C2D-4D9C-B999-14FCF769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661514-E874-479C-A83A-E11D7820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C4A6FA-2347-4AF7-968E-445ACC42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2B5817-CBFB-4321-969A-A75B5342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F302A2-A871-4EB2-A7D6-291F5D8E3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EF4C70-0AFA-4AE4-A325-C4C89B76C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DD4D14-37F5-4D64-AF69-6BA16AAA7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86CE-26D8-452B-9F51-66BCAF9AC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C6F45-4CFD-4D05-BCF3-219AD35E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2D33CA-D5A3-4CA7-88B3-14389B93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EE41F8-7D98-44C2-B8E7-13842F83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422E2E-753B-45D8-9CE4-D149E2F4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079DDD-9EB8-44B6-9B1A-372F5EE2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9B4B8F-69DD-424F-BB5A-BC64CB60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80BD07-7272-4FAF-81B3-0F518A13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E0069C-3E1C-4B4F-9687-C19CB40B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B87BFF-453D-4F59-89B2-EDEDC4C3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02F287-06E0-4463-B715-DF68F10C4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C0AF-87A4-47E1-900F-F579CFF93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9BE579-DB24-410D-AC78-1A56A6871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C2CF9C-1C3D-4504-A12D-50A4B2567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548646-BDF5-446D-95DC-F25E106E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E583C5-DCB4-4BEC-AD0C-5E72C5D9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BE7487-A512-45F8-8F71-B30134E0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592B3-2960-456A-AF28-21999660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6A9FF-527F-4042-8BB4-6F86AC94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2C7B0-D395-4630-9B93-7FED9F55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F5A8EB-9CFB-4AA5-9133-3A1D8EE4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0EBDFF-98FA-4541-9BA6-B00B701A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335A-FB0E-4BF3-824C-C8858535D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9DD641-1FB2-4B57-81C1-D56B70F6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1959B-5CBC-42D8-9A42-E88A09D17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6A077-E1FF-4E78-910B-8255717C9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4EAB8B-0E0F-46AD-A6C8-6F3CB5436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F178FC-A1B5-4E75-82CF-E3119353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0A491B-E56A-4C09-A932-BB2C43E0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108C8C-8AE7-44B4-9086-56A10AD5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58D419-F73A-4AE1-9C2C-E04B754B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2E1D4E-E3BB-4948-96FA-732BA533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D27A1C-7BE7-49CF-95BD-D69536F4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2B675-B19D-4A2D-8FB7-3AE20311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AD71B3-7BA7-4E4B-BF50-2D9C63C4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AFB4D7-85F8-48FB-A233-75DA8FE7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E2E9AD-9378-4F84-81B2-90B92EA0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8A5CC6-18A9-4CE3-834B-D58AAF901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20DCF4-175C-4D4E-921F-5A41A1560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27DB-4843-40AE-A0DC-D0C3F122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D4DCC-0835-425A-90EB-6C236CC3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2F16-1A6C-4B75-97FB-F84085C7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74CB7-8531-413C-B833-426328DC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6861-95C0-4601-96F4-3CB2C8D6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3186-8F85-454E-BCC0-99281380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0A60-64E4-47A6-A64A-FE410017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D7CC-65F5-4F8B-9653-88615BE0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1021-873C-4E8E-A592-6B6E46CD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7921-E24A-4C28-9EB4-34ACC301D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2648-1FB7-44C5-83F7-DBBB654B3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C8451-EE8A-4EA1-9F1D-2EE3B69B3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E54FD-874A-44AC-A268-C961C463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12FD3-306F-4F1D-8810-A01B95D7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1D608-6792-4666-95F5-5F8051B5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221C1-26D9-4B08-AA61-B5E6DACA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5DD6-612C-4906-B847-F5CEED67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399BA-4296-4833-8099-0AF415D4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68B86-7BA3-43B3-A347-570F06DC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1C5D9-316D-4EC7-A0C4-903891E7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26A07-5D72-4E65-A606-C190E376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AC1CB-E0BD-4B18-8999-126D7398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0006F-F9B9-42E0-A30D-0431B0873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09BBF-F8D1-489C-A937-F5DC50D16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CF379-8468-4B2F-8F42-580AB5A36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796AF-5C16-4C32-B9C0-1C69AA86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F719A-E1DE-4DDA-8A1D-CC5D7767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3042-4761-4200-A2B1-A39C09D7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99A9C-998C-4584-9DED-B1AD2E38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03EBD-D514-472D-84F9-8CC2C82A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5DCA6-0699-4B41-8706-A04E06E5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BD21C-FFF3-4130-B5FE-7C068642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C0BA6-3104-4CFB-BEA6-D511DA9C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1CDF4-D9F2-4258-8D0E-078C245F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FA444-B86F-4E1E-98EB-82D7214B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034BB-8298-46FB-943D-E5DB50E67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FC108-7F85-4E4B-9232-30EFE5ABC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51912-A3ED-494E-A57E-8235BD994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642F-E2D7-4FA9-9EFA-CDD8FAC6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50822-D3CB-400E-9BDA-2ACAB499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72E42-DDAF-46DB-AC67-B63AA479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51A38-FF13-47E4-AFBD-3CDC9317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84E48-26ED-49C4-A610-2B0B22E0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83A87-1FA3-459D-BD43-09899D49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A1F9B-745B-4544-A93D-43336BE7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66397-C70F-4090-A3FF-FD039515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1E9B5-7EC4-4764-88FF-4DB0302E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EFDC6-669C-476E-AF22-8B95A15F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DDEEB-92DE-4A24-89D9-BE3E04674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70A8-695C-40E1-B40B-95C115C6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17789-DC7C-455D-A812-24C03B988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B9FC5-AF63-4A42-81B5-85869DB8B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4D15F-53A1-482D-88F0-CF7F8ACF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9566D-0620-44CC-BB1B-5D2EB6A5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4E75C-C46F-45A6-AA5B-5A96AA97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F4A73-11C1-49F6-B8C2-AB4A811F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ED94E-7F71-4EE4-8E71-7F6CB471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D48D2-CAA2-4590-923E-EF0735D1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43F35-7DB8-4A16-9341-84E5467D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E2C60-997A-49F7-B2C1-59B54D6A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ACAB-2547-43B5-8CE4-CB5B704C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A3B8E-284D-426F-95C8-B74ACADD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CB26C-DAC8-4DF7-914C-DF9431526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5FF56-639B-4D89-9F06-D14760ABC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93ADB-B412-4DD7-B47E-26321C030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211E0-623C-476F-93FC-585A2183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7DB50-06AF-4842-B0EE-F9F9CAF5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450D9-737C-41D0-83C2-DDFA3979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60396-9749-475A-B7B3-286232B1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E40CB-3A60-41BC-AEA0-7EEDE1BA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00126-D194-4F6A-8022-07686914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A293-561C-41E9-9A75-3FE9C463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B2E5D-8878-42CF-B643-E0550CFA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2804E-5F27-4527-9E3F-2365903B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1F622-67A1-4EDA-A2FB-2D01C8E8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AA34E-4B65-48F1-8DD9-E2DF7C25B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DABB6-0408-407D-B222-086FC50E5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FC7C6-36EA-43E4-92D0-763301FEC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70FD5-F297-455D-B876-1E53E478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4AA7E-64C2-45B6-B5E6-A573E2B0E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5DB26-0BA4-4F3E-A129-CC272CC5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9ED2E-BC0D-4C75-B2CA-E1A9DBEB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2464-3649-4EF5-A587-0F67CA76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ABBDD-7A88-4432-886C-13240970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125B5-FDB9-48E2-8726-6D9EE864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0B822-18C3-4879-8C70-0C775A35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B7C03-AF92-4AF2-93CA-02BFAB64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966D4-4C34-408E-A215-AF4712E4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CC81B-56CE-49C1-8EEB-C3FE8EA03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161EF-08BD-4BF8-BE03-9C97050F7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37431D-863C-489D-8F00-D373CE22D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32D28F-657C-4FE4-AB96-CB4FACA8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0C9AE6-199F-49A4-A1D2-A2594C63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a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33720"/>
              <a:gd name="textAreaBottom" fmla="*/ 2134080 h 2133720"/>
            </a:gdLst>
            <a:ahLst/>
            <a:rect l="textAreaLeft" t="textAreaTop" r="textAreaRight" b="textAreaBottom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694480"/>
              <a:gd name="textAreaBottom" fmla="*/ 5694840 h 5694480"/>
            </a:gdLst>
            <a:ahLst/>
            <a:rect l="textAreaLeft" t="textAreaTop" r="textAreaRight" b="textAreaBottom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854280"/>
              <a:gd name="textAreaBottom" fmla="*/ 854640 h 854280"/>
            </a:gdLst>
            <a:ahLst/>
            <a:rect l="textAreaLeft" t="textAreaTop" r="textAreaRight" b="textAreaBottom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069920"/>
              <a:gd name="textAreaBottom" fmla="*/ 1070280 h 1069920"/>
            </a:gdLst>
            <a:ahLst/>
            <a:rect l="textAreaLeft" t="textAreaTop" r="textAreaRight" b="textAreaBottom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>
              <a:gd name="textAreaLeft" fmla="*/ 0 w 6667560"/>
              <a:gd name="textAreaRight" fmla="*/ 6667920 w 6667560"/>
              <a:gd name="textAreaTop" fmla="*/ 0 h 5335560"/>
              <a:gd name="textAreaBottom" fmla="*/ 5335920 h 5335560"/>
            </a:gdLst>
            <a:ahLst/>
            <a:rect l="textAreaLeft" t="textAreaTop" r="textAreaRight" b="textAreaBottom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055680"/>
              <a:gd name="textAreaBottom" fmla="*/ 3056040 h 3055680"/>
            </a:gdLst>
            <a:ahLst/>
            <a:rect l="textAreaLeft" t="textAreaTop" r="textAreaRight" b="textAreaBottom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>
              <a:gd name="textAreaLeft" fmla="*/ 0 w 6237360"/>
              <a:gd name="textAreaRight" fmla="*/ 6237720 w 6237360"/>
              <a:gd name="textAreaTop" fmla="*/ 0 h 3365640"/>
              <a:gd name="textAreaBottom" fmla="*/ 3366000 h 3365640"/>
            </a:gdLst>
            <a:ahLst/>
            <a:rect l="textAreaLeft" t="textAreaTop" r="textAreaRight" b="textAreaBottom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C280-A3AE-4620-A413-133DA9B305C5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a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4198-EB63-4DDD-86F5-6C271EC42A2A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a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88A1-1F34-4A44-8B59-34CA7A57621E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a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8D57-ABFA-4732-B311-A9A491D2DA28}" type="slidenum">
              <a:rPr b="0" lang="pl-PL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a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33720"/>
              <a:gd name="textAreaBottom" fmla="*/ 2134080 h 2133720"/>
            </a:gdLst>
            <a:ahLst/>
            <a:rect l="textAreaLeft" t="textAreaTop" r="textAreaRight" b="textAreaBottom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694480"/>
              <a:gd name="textAreaBottom" fmla="*/ 5694840 h 5694480"/>
            </a:gdLst>
            <a:ahLst/>
            <a:rect l="textAreaLeft" t="textAreaTop" r="textAreaRight" b="textAreaBottom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854280"/>
              <a:gd name="textAreaBottom" fmla="*/ 854640 h 854280"/>
            </a:gdLst>
            <a:ahLst/>
            <a:rect l="textAreaLeft" t="textAreaTop" r="textAreaRight" b="textAreaBottom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069920"/>
              <a:gd name="textAreaBottom" fmla="*/ 1070280 h 1069920"/>
            </a:gdLst>
            <a:ahLst/>
            <a:rect l="textAreaLeft" t="textAreaTop" r="textAreaRight" b="textAreaBottom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>
              <a:gd name="textAreaLeft" fmla="*/ 0 w 6667560"/>
              <a:gd name="textAreaRight" fmla="*/ 6667920 w 6667560"/>
              <a:gd name="textAreaTop" fmla="*/ 0 h 5335560"/>
              <a:gd name="textAreaBottom" fmla="*/ 5335920 h 5335560"/>
            </a:gdLst>
            <a:ahLst/>
            <a:rect l="textAreaLeft" t="textAreaTop" r="textAreaRight" b="textAreaBottom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055680"/>
              <a:gd name="textAreaBottom" fmla="*/ 3056040 h 3055680"/>
            </a:gdLst>
            <a:ahLst/>
            <a:rect l="textAreaLeft" t="textAreaTop" r="textAreaRight" b="textAreaBottom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>
              <a:gd name="textAreaLeft" fmla="*/ 0 w 6237360"/>
              <a:gd name="textAreaRight" fmla="*/ 6237720 w 6237360"/>
              <a:gd name="textAreaTop" fmla="*/ 0 h 3365640"/>
              <a:gd name="textAreaBottom" fmla="*/ 3366000 h 3365640"/>
            </a:gdLst>
            <a:ahLst/>
            <a:rect l="textAreaLeft" t="textAreaTop" r="textAreaRight" b="textAreaBottom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AB6F-3429-40EA-A217-64614BDBC487}" type="slidenum">
              <a:rPr b="0" lang="pl-PL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a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3440-5524-45F4-917E-D9110CC34C8E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a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B610-5772-40E4-9062-86588F8EF7E4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a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B27B-B8DF-410B-B4B0-358F2390FAFA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a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0CD9-7D04-49AA-9A3B-C75B442A1EE6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a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1144-7B8F-4572-A5A6-CE36ED1AFC2F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a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9613-E4E5-4938-8DDF-426F97954B8F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a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6952-28EE-413B-AD5A-98DE22FD8CEE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14080" y="2133720"/>
            <a:ext cx="83055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400" spc="-1" strike="noStrike">
                <a:solidFill>
                  <a:srgbClr val="ffcc00"/>
                </a:solidFill>
                <a:latin typeface="Times New Roman"/>
              </a:rPr>
              <a:t>FUNKCJA JEDNEJ ZMIENNEJ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WordArt 2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33" name="Text Box 3"/>
          <p:cNvSpPr/>
          <p:nvPr/>
        </p:nvSpPr>
        <p:spPr>
          <a:xfrm>
            <a:off x="914400" y="2057400"/>
            <a:ext cx="75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że funkcja f:X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Y jest różnowartościowa jeżeli element y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Y przyporządkowany jest dokładnie jednemu elementowi x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X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4" name="Text Box 4"/>
          <p:cNvSpPr/>
          <p:nvPr/>
        </p:nvSpPr>
        <p:spPr>
          <a:xfrm>
            <a:off x="1692360" y="4653000"/>
            <a:ext cx="568800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pl-PL" sz="6000" spc="-1" strike="noStrike">
                <a:solidFill>
                  <a:srgbClr val="ffffcc"/>
                </a:solidFill>
                <a:latin typeface="Symbol"/>
                <a:ea typeface="Symbol"/>
              </a:rPr>
              <a:t>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(x</a:t>
            </a:r>
            <a:r>
              <a:rPr b="1" lang="pl-PL" sz="28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pl-PL" sz="2800" spc="-1" strike="noStrike">
                <a:solidFill>
                  <a:srgbClr val="ffffcc"/>
                </a:solidFill>
                <a:latin typeface="Symbol"/>
                <a:ea typeface="Symbol"/>
              </a:rPr>
              <a:t>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1" lang="pl-PL" sz="28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pl-PL" sz="28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f(x</a:t>
            </a:r>
            <a:r>
              <a:rPr b="1" lang="pl-PL" sz="28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1" lang="pl-PL" sz="2800" spc="-1" strike="noStrike">
                <a:solidFill>
                  <a:srgbClr val="ffffcc"/>
                </a:solidFill>
                <a:latin typeface="Symbol"/>
                <a:ea typeface="Symbol"/>
              </a:rPr>
              <a:t>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f(x</a:t>
            </a:r>
            <a:r>
              <a:rPr b="1" lang="pl-PL" sz="28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1" lang="pl-PL" sz="24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,x</a:t>
            </a:r>
            <a:r>
              <a:rPr b="1" lang="pl-PL" sz="24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pl-PL" sz="24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Oval 2"/>
          <p:cNvSpPr/>
          <p:nvPr/>
        </p:nvSpPr>
        <p:spPr>
          <a:xfrm>
            <a:off x="1447920" y="609480"/>
            <a:ext cx="1600200" cy="16002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6" name="Oval 3"/>
          <p:cNvSpPr/>
          <p:nvPr/>
        </p:nvSpPr>
        <p:spPr>
          <a:xfrm>
            <a:off x="4952880" y="609480"/>
            <a:ext cx="1752840" cy="16002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1981080" y="609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2286000" y="1219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9" name="Text Box 6"/>
          <p:cNvSpPr/>
          <p:nvPr/>
        </p:nvSpPr>
        <p:spPr>
          <a:xfrm>
            <a:off x="175248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0" name="Text Box 7"/>
          <p:cNvSpPr/>
          <p:nvPr/>
        </p:nvSpPr>
        <p:spPr>
          <a:xfrm>
            <a:off x="5486400" y="838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1" name="Text Box 8"/>
          <p:cNvSpPr/>
          <p:nvPr/>
        </p:nvSpPr>
        <p:spPr>
          <a:xfrm>
            <a:off x="5715000" y="1676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2" name="Line 9"/>
          <p:cNvSpPr/>
          <p:nvPr/>
        </p:nvSpPr>
        <p:spPr>
          <a:xfrm>
            <a:off x="2286000" y="838080"/>
            <a:ext cx="32004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3" name="Line 10"/>
          <p:cNvSpPr/>
          <p:nvPr/>
        </p:nvSpPr>
        <p:spPr>
          <a:xfrm flipV="1">
            <a:off x="2666880" y="1066680"/>
            <a:ext cx="2819520" cy="4572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4" name="Line 14"/>
          <p:cNvSpPr/>
          <p:nvPr/>
        </p:nvSpPr>
        <p:spPr>
          <a:xfrm>
            <a:off x="1981080" y="1676520"/>
            <a:ext cx="3733920" cy="3045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5" name="Text Box 15"/>
          <p:cNvSpPr/>
          <p:nvPr/>
        </p:nvSpPr>
        <p:spPr>
          <a:xfrm>
            <a:off x="762120" y="6094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6" name="Text Box 16"/>
          <p:cNvSpPr/>
          <p:nvPr/>
        </p:nvSpPr>
        <p:spPr>
          <a:xfrm>
            <a:off x="7086600" y="609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7" name="Text Box 17"/>
          <p:cNvSpPr/>
          <p:nvPr/>
        </p:nvSpPr>
        <p:spPr>
          <a:xfrm>
            <a:off x="762120" y="2209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o nie jest funkcja różnowartościow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8" name="Oval 18"/>
          <p:cNvSpPr/>
          <p:nvPr/>
        </p:nvSpPr>
        <p:spPr>
          <a:xfrm>
            <a:off x="1447920" y="3200400"/>
            <a:ext cx="1752480" cy="152388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9" name="Oval 20"/>
          <p:cNvSpPr/>
          <p:nvPr/>
        </p:nvSpPr>
        <p:spPr>
          <a:xfrm>
            <a:off x="5105520" y="3200400"/>
            <a:ext cx="1981080" cy="152388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0" name="Text Box 21"/>
          <p:cNvSpPr/>
          <p:nvPr/>
        </p:nvSpPr>
        <p:spPr>
          <a:xfrm>
            <a:off x="1981080" y="3200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1" name="Text Box 22"/>
          <p:cNvSpPr/>
          <p:nvPr/>
        </p:nvSpPr>
        <p:spPr>
          <a:xfrm>
            <a:off x="2666880" y="3657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2" name="Text Box 23"/>
          <p:cNvSpPr/>
          <p:nvPr/>
        </p:nvSpPr>
        <p:spPr>
          <a:xfrm>
            <a:off x="17524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3" name="Text Box 24"/>
          <p:cNvSpPr/>
          <p:nvPr/>
        </p:nvSpPr>
        <p:spPr>
          <a:xfrm>
            <a:off x="571500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4" name="Text Box 25"/>
          <p:cNvSpPr/>
          <p:nvPr/>
        </p:nvSpPr>
        <p:spPr>
          <a:xfrm>
            <a:off x="5334120" y="3886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5" name="Text Box 26"/>
          <p:cNvSpPr/>
          <p:nvPr/>
        </p:nvSpPr>
        <p:spPr>
          <a:xfrm>
            <a:off x="6324480" y="36576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6" name="Text Box 27"/>
          <p:cNvSpPr/>
          <p:nvPr/>
        </p:nvSpPr>
        <p:spPr>
          <a:xfrm>
            <a:off x="5867280" y="4114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7" name="Line 28"/>
          <p:cNvSpPr/>
          <p:nvPr/>
        </p:nvSpPr>
        <p:spPr>
          <a:xfrm>
            <a:off x="2286000" y="3429000"/>
            <a:ext cx="342900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8" name="Line 29"/>
          <p:cNvSpPr/>
          <p:nvPr/>
        </p:nvSpPr>
        <p:spPr>
          <a:xfrm>
            <a:off x="3048120" y="3886200"/>
            <a:ext cx="228600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9" name="Line 30"/>
          <p:cNvSpPr/>
          <p:nvPr/>
        </p:nvSpPr>
        <p:spPr>
          <a:xfrm>
            <a:off x="1981080" y="4343400"/>
            <a:ext cx="38862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0" name="Text Box 31"/>
          <p:cNvSpPr/>
          <p:nvPr/>
        </p:nvSpPr>
        <p:spPr>
          <a:xfrm>
            <a:off x="762120" y="3657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1" name="Rectangle 33"/>
          <p:cNvSpPr/>
          <p:nvPr/>
        </p:nvSpPr>
        <p:spPr>
          <a:xfrm>
            <a:off x="7683480" y="3432240"/>
            <a:ext cx="6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2" name="Text Box 34"/>
          <p:cNvSpPr/>
          <p:nvPr/>
        </p:nvSpPr>
        <p:spPr>
          <a:xfrm>
            <a:off x="1066680" y="510552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o jest funkcja różnowartościow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 Box 3"/>
          <p:cNvSpPr/>
          <p:nvPr/>
        </p:nvSpPr>
        <p:spPr>
          <a:xfrm>
            <a:off x="7467480" y="3429000"/>
            <a:ext cx="304920" cy="457200"/>
          </a:xfrm>
          <a:prstGeom prst="rect">
            <a:avLst/>
          </a:prstGeom>
          <a:solidFill>
            <a:srgbClr val="56002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4" name="WordArt 5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65" name="Text Box 6"/>
          <p:cNvSpPr/>
          <p:nvPr/>
        </p:nvSpPr>
        <p:spPr>
          <a:xfrm>
            <a:off x="914400" y="1747800"/>
            <a:ext cx="75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Obrazem zbioru AcX, wyznaczonym przez funkcję f:X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Y nazywamy zbiór wartości funkcji f dla argumentów ze zbioru 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Object 7"/>
              <p:cNvSpPr txBox="1"/>
              <p:nvPr/>
            </p:nvSpPr>
            <p:spPr>
              <a:xfrm>
                <a:off x="468360" y="4133880"/>
                <a:ext cx="837396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∈</m:t>
                        </m:r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AutoShape 6"/>
          <p:cNvSpPr/>
          <p:nvPr/>
        </p:nvSpPr>
        <p:spPr>
          <a:xfrm>
            <a:off x="755640" y="1197000"/>
            <a:ext cx="3024360" cy="3456000"/>
          </a:xfrm>
          <a:prstGeom prst="octagon">
            <a:avLst>
              <a:gd name="adj" fmla="val 29287"/>
            </a:avLst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8" name="AutoShape 7"/>
          <p:cNvSpPr/>
          <p:nvPr/>
        </p:nvSpPr>
        <p:spPr>
          <a:xfrm>
            <a:off x="5219640" y="1197000"/>
            <a:ext cx="3024360" cy="3456000"/>
          </a:xfrm>
          <a:prstGeom prst="octagon">
            <a:avLst>
              <a:gd name="adj" fmla="val 29287"/>
            </a:avLst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9" name="Oval 8"/>
          <p:cNvSpPr/>
          <p:nvPr/>
        </p:nvSpPr>
        <p:spPr>
          <a:xfrm>
            <a:off x="1835280" y="2781360"/>
            <a:ext cx="1368360" cy="115236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0" name="Rectangle 9"/>
          <p:cNvSpPr/>
          <p:nvPr/>
        </p:nvSpPr>
        <p:spPr>
          <a:xfrm>
            <a:off x="6227640" y="2565360"/>
            <a:ext cx="1440000" cy="136836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1" name="Text Box 10"/>
          <p:cNvSpPr/>
          <p:nvPr/>
        </p:nvSpPr>
        <p:spPr>
          <a:xfrm>
            <a:off x="979560" y="333360"/>
            <a:ext cx="85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2" name="Text Box 11"/>
          <p:cNvSpPr/>
          <p:nvPr/>
        </p:nvSpPr>
        <p:spPr>
          <a:xfrm>
            <a:off x="5799240" y="434880"/>
            <a:ext cx="85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3" name="Text Box 12"/>
          <p:cNvSpPr/>
          <p:nvPr/>
        </p:nvSpPr>
        <p:spPr>
          <a:xfrm>
            <a:off x="1622520" y="2184480"/>
            <a:ext cx="85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4" name="Text Box 13"/>
          <p:cNvSpPr/>
          <p:nvPr/>
        </p:nvSpPr>
        <p:spPr>
          <a:xfrm>
            <a:off x="5799240" y="1803240"/>
            <a:ext cx="15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f(A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5" name="Line 14"/>
          <p:cNvSpPr/>
          <p:nvPr/>
        </p:nvSpPr>
        <p:spPr>
          <a:xfrm>
            <a:off x="2771640" y="3357720"/>
            <a:ext cx="38833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6" name="Text Box 15"/>
          <p:cNvSpPr/>
          <p:nvPr/>
        </p:nvSpPr>
        <p:spPr>
          <a:xfrm>
            <a:off x="4363920" y="2595600"/>
            <a:ext cx="85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f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WordArt 3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914400" y="1747800"/>
            <a:ext cx="75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Przeciwobrazem zbioru CcY, wyznaczonym przez funkcję f:X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Y nazywamy zbiór argumentów funkcji f, których obrazy należą do zbioru 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9" name="Object 5"/>
              <p:cNvSpPr txBox="1"/>
              <p:nvPr/>
            </p:nvSpPr>
            <p:spPr>
              <a:xfrm>
                <a:off x="971640" y="4227480"/>
                <a:ext cx="70819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X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AutoShape 2"/>
          <p:cNvSpPr/>
          <p:nvPr/>
        </p:nvSpPr>
        <p:spPr>
          <a:xfrm>
            <a:off x="900000" y="1413000"/>
            <a:ext cx="3024360" cy="3456000"/>
          </a:xfrm>
          <a:prstGeom prst="octagon">
            <a:avLst>
              <a:gd name="adj" fmla="val 29287"/>
            </a:avLst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1" name="AutoShape 3"/>
          <p:cNvSpPr/>
          <p:nvPr/>
        </p:nvSpPr>
        <p:spPr>
          <a:xfrm>
            <a:off x="5364000" y="1413000"/>
            <a:ext cx="3024360" cy="3456000"/>
          </a:xfrm>
          <a:prstGeom prst="octagon">
            <a:avLst>
              <a:gd name="adj" fmla="val 29287"/>
            </a:avLst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2" name="Oval 4"/>
          <p:cNvSpPr/>
          <p:nvPr/>
        </p:nvSpPr>
        <p:spPr>
          <a:xfrm>
            <a:off x="1979640" y="2997360"/>
            <a:ext cx="1368360" cy="115236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3" name="Rectangle 5"/>
          <p:cNvSpPr/>
          <p:nvPr/>
        </p:nvSpPr>
        <p:spPr>
          <a:xfrm>
            <a:off x="6372360" y="2781360"/>
            <a:ext cx="1439640" cy="136836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1123920" y="549360"/>
            <a:ext cx="85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5" name="Text Box 7"/>
          <p:cNvSpPr/>
          <p:nvPr/>
        </p:nvSpPr>
        <p:spPr>
          <a:xfrm>
            <a:off x="5943600" y="650880"/>
            <a:ext cx="85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6" name="Text Box 8"/>
          <p:cNvSpPr/>
          <p:nvPr/>
        </p:nvSpPr>
        <p:spPr>
          <a:xfrm>
            <a:off x="1766880" y="2400480"/>
            <a:ext cx="158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f</a:t>
            </a:r>
            <a:r>
              <a:rPr b="0" lang="pl-PL" sz="4400" spc="-1" strike="noStrike" baseline="30000">
                <a:solidFill>
                  <a:srgbClr val="ffffcc"/>
                </a:solidFill>
                <a:latin typeface="Times New Roman"/>
              </a:rPr>
              <a:t>-1</a:t>
            </a: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(C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7" name="Text Box 9"/>
          <p:cNvSpPr/>
          <p:nvPr/>
        </p:nvSpPr>
        <p:spPr>
          <a:xfrm>
            <a:off x="5943600" y="2019240"/>
            <a:ext cx="15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8" name="Line 10"/>
          <p:cNvSpPr/>
          <p:nvPr/>
        </p:nvSpPr>
        <p:spPr>
          <a:xfrm>
            <a:off x="2916360" y="3573360"/>
            <a:ext cx="388296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9" name="Text Box 11"/>
          <p:cNvSpPr/>
          <p:nvPr/>
        </p:nvSpPr>
        <p:spPr>
          <a:xfrm>
            <a:off x="4508640" y="2811600"/>
            <a:ext cx="85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f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Text Box 5"/>
          <p:cNvSpPr/>
          <p:nvPr/>
        </p:nvSpPr>
        <p:spPr>
          <a:xfrm>
            <a:off x="539640" y="727200"/>
            <a:ext cx="820908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Jeśli zbiory X i Y są zbiorami liczbowymi, to funkcję f nazywamy liczbową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Piszemy: f:D     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Wykresem funkcji f nazywamy zbiór wszystkich punktów płaszczyzny o współrzędnych (x,y) takich, że x należy do dziedziny funkcji, a y jest odpowiadającą mu wartością funkcji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1" name="Object 6"/>
              <p:cNvSpPr txBox="1"/>
              <p:nvPr/>
            </p:nvSpPr>
            <p:spPr>
              <a:xfrm>
                <a:off x="2843280" y="2060640"/>
                <a:ext cx="50472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2" name="Object 7"/>
              <p:cNvSpPr txBox="1"/>
              <p:nvPr/>
            </p:nvSpPr>
            <p:spPr>
              <a:xfrm>
                <a:off x="1571760" y="5442120"/>
                <a:ext cx="616896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  <m:r>
                          <m:t xml:space="preserve">∧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2"/>
          <p:cNvSpPr/>
          <p:nvPr/>
        </p:nvSpPr>
        <p:spPr>
          <a:xfrm>
            <a:off x="0" y="333360"/>
            <a:ext cx="9144000" cy="69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UWAGA !!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Wykres funkcji ZALEŻY OD JEJ DZIEDZINY !!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ffffcc"/>
                </a:solidFill>
                <a:uFillTx/>
                <a:latin typeface="Times New Roman"/>
              </a:rPr>
              <a:t>PRZYKŁA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Narysuj wykres funkcji y=x+1 przyjmując za dziedzinę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60000"/>
              </a:lnSpc>
              <a:spcBef>
                <a:spcPts val="2001"/>
              </a:spcBef>
              <a:buClr>
                <a:srgbClr val="ffffcc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{-3, -1, 0, 2, 4}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60000"/>
              </a:lnSpc>
              <a:spcBef>
                <a:spcPts val="2001"/>
              </a:spcBef>
              <a:buClr>
                <a:srgbClr val="ffffcc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60000"/>
              </a:lnSpc>
              <a:spcBef>
                <a:spcPts val="2001"/>
              </a:spcBef>
              <a:buClr>
                <a:srgbClr val="ffffcc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&lt;-1,4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60000"/>
              </a:lnSpc>
              <a:spcBef>
                <a:spcPts val="2001"/>
              </a:spcBef>
              <a:buClr>
                <a:srgbClr val="ffffcc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R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WordArt 2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95" name="Text Box 4"/>
          <p:cNvSpPr/>
          <p:nvPr/>
        </p:nvSpPr>
        <p:spPr>
          <a:xfrm>
            <a:off x="914400" y="1747800"/>
            <a:ext cx="75438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iejscem zerowym funkcji f:X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Y nazywamy zbiór argumentów funkcji f, dla których wartość funkcji jest równa 0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Geometrycznie: miejsce zerowe funkcji jest wyznaczone przez punkt(y) przecięcia wykresu z osią OX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ext Box 2"/>
          <p:cNvSpPr/>
          <p:nvPr/>
        </p:nvSpPr>
        <p:spPr>
          <a:xfrm>
            <a:off x="914400" y="549360"/>
            <a:ext cx="7543800" cy="45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UWAGA!!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Funkcja może nie mieć, mieć jedno, kilka, lub nieskończenie wiele miejsc zerowych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Wyznaczyć miejsce zerowe funkcji (rachunkowo), to znaczy rozwiązać równanie f(x)=0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WordArt 4"/>
          <p:cNvSpPr txBox="1"/>
          <p:nvPr/>
        </p:nvSpPr>
        <p:spPr>
          <a:xfrm>
            <a:off x="990720" y="380880"/>
            <a:ext cx="236196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7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Book Antiqua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510" name="Text Box 5"/>
          <p:cNvSpPr/>
          <p:nvPr/>
        </p:nvSpPr>
        <p:spPr>
          <a:xfrm>
            <a:off x="304920" y="1341360"/>
            <a:ext cx="8534160" cy="52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Arial"/>
              </a:rPr>
              <a:t>Niech dane będą dwa niepuste zbiory  X i 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Jeżeli </a:t>
            </a:r>
            <a:r>
              <a:rPr b="1" lang="pl-PL" sz="2800" spc="-1" strike="noStrike" u="sng">
                <a:solidFill>
                  <a:srgbClr val="ffffcc"/>
                </a:solidFill>
                <a:uFillTx/>
                <a:latin typeface="Times New Roman"/>
              </a:rPr>
              <a:t>każdemu 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elementowi x</a:t>
            </a:r>
            <a:r>
              <a:rPr b="1" lang="pl-PL" sz="28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X przyporządkujemy </a:t>
            </a:r>
            <a:r>
              <a:rPr b="1" lang="pl-PL" sz="2800" spc="-1" strike="noStrike" u="sng">
                <a:solidFill>
                  <a:srgbClr val="ffffcc"/>
                </a:solidFill>
                <a:uFillTx/>
                <a:latin typeface="Times New Roman"/>
              </a:rPr>
              <a:t>dokładnie jeden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 element y</a:t>
            </a:r>
            <a:r>
              <a:rPr b="1" lang="pl-PL" sz="28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Y to mówimy, że na zbiorze X została określona funkcja o wartościach w zbiorze 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Piszemy:                                      f- symbol funkcj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f:X</a:t>
            </a:r>
            <a:r>
              <a:rPr b="1" lang="pl-PL" sz="24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                                         x- argument funkcj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1" lang="pl-PL" sz="24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=f(x)                                     y - wartość funkcji w pkt. 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- zbiór argumentów (dziedzin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  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- przeciwdziedzin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Line 3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8" name="Line 4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9" name="Line 5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0" name="Line 7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1" name="Line 8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2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3" name="Line 10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4" name="Line 11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5" name="Line 12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6" name="WordArt 18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07" name="Text Box 19"/>
          <p:cNvSpPr/>
          <p:nvPr/>
        </p:nvSpPr>
        <p:spPr>
          <a:xfrm>
            <a:off x="914400" y="1747800"/>
            <a:ext cx="7543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 że funkcj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są równe, jeśli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8" name="Object 20"/>
              <p:cNvSpPr txBox="1"/>
              <p:nvPr/>
            </p:nvSpPr>
            <p:spPr>
              <a:xfrm>
                <a:off x="4572000" y="1773360"/>
                <a:ext cx="476712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R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R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Object 21"/>
              <p:cNvSpPr txBox="1"/>
              <p:nvPr/>
            </p:nvSpPr>
            <p:spPr>
              <a:xfrm>
                <a:off x="2687760" y="3284640"/>
                <a:ext cx="3971880" cy="22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limLow>
                          <m:e>
                            <m:r>
                              <m:t xml:space="preserve">∀</m:t>
                            </m:r>
                          </m:e>
                          <m:lim>
                            <m:r>
                              <m:t xml:space="preserve">x</m:t>
                            </m:r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1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2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3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4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5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6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7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8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9" name="Text Box 12"/>
          <p:cNvSpPr/>
          <p:nvPr/>
        </p:nvSpPr>
        <p:spPr>
          <a:xfrm>
            <a:off x="914400" y="5335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Na funkcjach liczbowych można wykonywać działania arytmetyczne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0" name="Object 13"/>
              <p:cNvSpPr txBox="1"/>
              <p:nvPr/>
            </p:nvSpPr>
            <p:spPr>
              <a:xfrm>
                <a:off x="1619280" y="1989000"/>
                <a:ext cx="5473800" cy="407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2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3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4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5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6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7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8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9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0" name="Line 11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1" name="Line 12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2" name="Line 13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3" name="Line 1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4" name="Line 1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5" name="Line 1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6" name="Line 1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7" name="Line 1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8" name="Line 19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9" name="WordArt 20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40" name="Text Box 21"/>
          <p:cNvSpPr/>
          <p:nvPr/>
        </p:nvSpPr>
        <p:spPr>
          <a:xfrm>
            <a:off x="914400" y="17478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 że funkcja f jest rosnąca w zbiorze AcD, g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1" name="Object 23"/>
              <p:cNvSpPr txBox="1"/>
              <p:nvPr/>
            </p:nvSpPr>
            <p:spPr>
              <a:xfrm>
                <a:off x="376200" y="3068640"/>
                <a:ext cx="8228160" cy="13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∀</m:t>
                        </m:r>
                      </m:e>
                      <m:li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2" name="Text Box 24"/>
          <p:cNvSpPr/>
          <p:nvPr/>
        </p:nvSpPr>
        <p:spPr>
          <a:xfrm>
            <a:off x="1060560" y="501336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(wraz ze wzrostem argumentów rosną wartości funkcji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4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5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6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7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8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9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0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1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2" name="Line 11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3" name="Line 12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4" name="Line 13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5" name="Line 1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6" name="Line 1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7" name="Line 1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8" name="Line 1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9" name="Line 1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0" name="Line 19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1" name="Line 20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2" name="Line 21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3" name="Line 22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4" name="Line 2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5" name="Line 2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6" name="Line 2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7" name="Line 2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8" name="Line 2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9" name="Line 28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0" name="WordArt 29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71" name="Text Box 30"/>
          <p:cNvSpPr/>
          <p:nvPr/>
        </p:nvSpPr>
        <p:spPr>
          <a:xfrm>
            <a:off x="914400" y="17478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 że funkcja f jest malejąca w zbiorze AcD, g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2" name="Object 31"/>
              <p:cNvSpPr txBox="1"/>
              <p:nvPr/>
            </p:nvSpPr>
            <p:spPr>
              <a:xfrm>
                <a:off x="376200" y="3068640"/>
                <a:ext cx="8228160" cy="13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∀</m:t>
                        </m:r>
                      </m:e>
                      <m:li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3" name="Text Box 32"/>
          <p:cNvSpPr/>
          <p:nvPr/>
        </p:nvSpPr>
        <p:spPr>
          <a:xfrm>
            <a:off x="1060560" y="501336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(wraz ze wzrostem argumentów maleją wartości funkcji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5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6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7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8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9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0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1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2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3" name="Line 11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4" name="Line 12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5" name="Line 13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6" name="Line 1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7" name="Line 1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8" name="Line 1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9" name="Line 1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0" name="Line 1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1" name="Line 19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2" name="Line 20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3" name="Line 21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4" name="Line 22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5" name="Line 2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6" name="Line 2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7" name="Line 2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8" name="Line 2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9" name="Line 2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0" name="Line 28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1" name="WordArt 29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02" name="Text Box 30"/>
          <p:cNvSpPr/>
          <p:nvPr/>
        </p:nvSpPr>
        <p:spPr>
          <a:xfrm>
            <a:off x="914400" y="17478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 że funkcja f jest stała w zbiorze AcD, g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3" name="Object 31"/>
              <p:cNvSpPr txBox="1"/>
              <p:nvPr/>
            </p:nvSpPr>
            <p:spPr>
              <a:xfrm>
                <a:off x="1766880" y="3068640"/>
                <a:ext cx="5446800" cy="13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∀</m:t>
                        </m:r>
                      </m:e>
                      <m:li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4" name="Text Box 32"/>
          <p:cNvSpPr/>
          <p:nvPr/>
        </p:nvSpPr>
        <p:spPr>
          <a:xfrm>
            <a:off x="1060560" y="501336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(wartości funkcji są stał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6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7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8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9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0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1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2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3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4" name="Line 11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5" name="Line 12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6" name="Line 13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7" name="Line 1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8" name="Line 1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9" name="Line 1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0" name="Line 1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1" name="Line 1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2" name="Line 19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3" name="Line 20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4" name="Line 21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5" name="Line 22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6" name="Line 2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7" name="Line 2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8" name="Line 2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9" name="Line 2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0" name="Line 2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1" name="Line 28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2" name="Text Box 30"/>
          <p:cNvSpPr/>
          <p:nvPr/>
        </p:nvSpPr>
        <p:spPr>
          <a:xfrm>
            <a:off x="914400" y="681120"/>
            <a:ext cx="7543800" cy="60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Pojęcia: funkcja rosnąca, malejąca, stała składają się na pojęcie </a:t>
            </a:r>
            <a:r>
              <a:rPr b="1" lang="pl-PL" sz="3600" spc="-1" strike="noStrike">
                <a:solidFill>
                  <a:srgbClr val="ffff00"/>
                </a:solidFill>
                <a:latin typeface="Times New Roman"/>
              </a:rPr>
              <a:t>monotoniczności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 funkcji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Funkcje rosnące lub malejące nazywamy ściśle monotonicznymi. Funkcje nierosnące lub niemalejące nazywamy monotonicznymi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4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5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6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7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8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9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0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1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2" name="Line 11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3" name="Line 12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4" name="Line 13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5" name="Line 1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6" name="Line 1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7" name="Line 1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8" name="Line 1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9" name="Line 1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0" name="Line 19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1" name="Line 20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2" name="Line 21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3" name="Line 22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4" name="Line 2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5" name="Line 2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6" name="Line 2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7" name="Line 2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8" name="Line 2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9" name="Line 28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0" name="WordArt 29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61" name="Text Box 30"/>
          <p:cNvSpPr/>
          <p:nvPr/>
        </p:nvSpPr>
        <p:spPr>
          <a:xfrm>
            <a:off x="914400" y="17478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 że funkcja f jest parzysta, jeśli dla każdego x należącego do D zachodz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2" name="Object 31"/>
              <p:cNvSpPr txBox="1"/>
              <p:nvPr/>
            </p:nvSpPr>
            <p:spPr>
              <a:xfrm>
                <a:off x="2532240" y="2870280"/>
                <a:ext cx="3914640" cy="19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3" name="Text Box 33"/>
          <p:cNvSpPr/>
          <p:nvPr/>
        </p:nvSpPr>
        <p:spPr>
          <a:xfrm>
            <a:off x="914400" y="50101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UWAGA!!! Wykres funkcji parzystej jest symetryczny względem osi O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5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6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7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8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9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0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1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2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3" name="Line 11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4" name="Line 12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5" name="Line 13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6" name="Line 1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7" name="Line 1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8" name="Line 1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9" name="Line 1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0" name="Line 1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1" name="Line 19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2" name="Line 20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3" name="Line 21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4" name="Line 22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5" name="Line 2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6" name="Line 2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7" name="Line 2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8" name="Line 2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9" name="Line 2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0" name="Line 28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1" name="Line 29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2" name="Line 30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3" name="Line 31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4" name="Line 32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5" name="Line 3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6" name="Line 34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7" name="Line 3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8" name="Line 3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9" name="Line 37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0" name="WordArt 38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901" name="Text Box 39"/>
          <p:cNvSpPr/>
          <p:nvPr/>
        </p:nvSpPr>
        <p:spPr>
          <a:xfrm>
            <a:off x="914400" y="1747800"/>
            <a:ext cx="797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 że funkcja f jest nieparzysta, jeśli dla każdego x należącego do D zachodz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2" name="Object 40"/>
              <p:cNvSpPr txBox="1"/>
              <p:nvPr/>
            </p:nvSpPr>
            <p:spPr>
              <a:xfrm>
                <a:off x="2333520" y="2852640"/>
                <a:ext cx="4311720" cy="192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03" name="Text Box 41"/>
          <p:cNvSpPr/>
          <p:nvPr/>
        </p:nvSpPr>
        <p:spPr>
          <a:xfrm>
            <a:off x="914400" y="50101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UWAGA!!! Wykres funkcji nieparzystej jest symetryczny względem pkt. O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5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6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7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8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9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0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1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2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3" name="Line 11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4" name="Line 12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5" name="Line 13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6" name="Line 1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7" name="Line 1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8" name="Line 1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9" name="Line 1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0" name="Line 1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1" name="Line 19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2" name="Line 20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3" name="Line 21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4" name="Line 22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5" name="Line 2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6" name="Line 2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7" name="Line 2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8" name="Line 2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9" name="Line 2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0" name="Line 28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1" name="Line 29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2" name="Line 30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3" name="Line 31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4" name="Line 32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5" name="Line 3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6" name="Line 34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7" name="Line 3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8" name="Line 3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9" name="Line 37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0" name="WordArt 38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941" name="Text Box 39"/>
          <p:cNvSpPr/>
          <p:nvPr/>
        </p:nvSpPr>
        <p:spPr>
          <a:xfrm>
            <a:off x="914400" y="17478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 że funkcja f jest okresowa, jeśli istnieje taka liczba T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≠0, że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2" name="Object 40"/>
              <p:cNvSpPr txBox="1"/>
              <p:nvPr/>
            </p:nvSpPr>
            <p:spPr>
              <a:xfrm>
                <a:off x="2220840" y="2941560"/>
                <a:ext cx="4538880" cy="192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43" name="Text Box 41"/>
          <p:cNvSpPr/>
          <p:nvPr/>
        </p:nvSpPr>
        <p:spPr>
          <a:xfrm>
            <a:off x="611280" y="558972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(wartości funkcji „cyklicznie” powtarzają się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5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6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7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8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9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0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1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2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3" name="Line 4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4" name="Line 4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5" name="Line 4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6" name="Line 4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7" name="Line 4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8" name="Line 4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9" name="Line 4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0" name="Line 4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1" name="Line 5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2" name="Line 51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3" name="Line 52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4" name="Line 53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5" name="Line 5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6" name="Line 5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7" name="Line 5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8" name="Line 5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9" name="Line 5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0" name="Line 59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1" name="Line 60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2" name="Line 61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3" name="Line 62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4" name="Line 6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5" name="Line 6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6" name="Line 6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7" name="Line 6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8" name="Line 6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9" name="Line 68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0" name="WordArt 69"/>
          <p:cNvSpPr txBox="1"/>
          <p:nvPr/>
        </p:nvSpPr>
        <p:spPr>
          <a:xfrm>
            <a:off x="2133720" y="2381400"/>
            <a:ext cx="466236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ZADANI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2"/>
          <p:cNvSpPr/>
          <p:nvPr/>
        </p:nvSpPr>
        <p:spPr>
          <a:xfrm>
            <a:off x="304920" y="228600"/>
            <a:ext cx="822960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Funkcję można określić na różne sposoby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słownie- np. Każdemu uczniowi klasy I D  przyporządkowujemy jego numer w dzienniku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grafem        X                                       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wzorem   y= x + 1,  X=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abelką               </a:t>
            </a:r>
            <a:r>
              <a:rPr b="1" lang="pl-PL" sz="2400" spc="-1" strike="noStrike" u="sng">
                <a:solidFill>
                  <a:srgbClr val="ffffcc"/>
                </a:solidFill>
                <a:uFillTx/>
                <a:latin typeface="Times New Roman"/>
              </a:rPr>
              <a:t>x       a       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                            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       1       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2" name="Oval 3"/>
          <p:cNvSpPr/>
          <p:nvPr/>
        </p:nvSpPr>
        <p:spPr>
          <a:xfrm>
            <a:off x="1447920" y="2286000"/>
            <a:ext cx="1371600" cy="13716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1752480" y="2666880"/>
            <a:ext cx="762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1828800" y="2362320"/>
            <a:ext cx="609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5" name="Oval 7"/>
          <p:cNvSpPr/>
          <p:nvPr/>
        </p:nvSpPr>
        <p:spPr>
          <a:xfrm>
            <a:off x="4267080" y="2286000"/>
            <a:ext cx="1524240" cy="13716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6" name="Text Box 8"/>
          <p:cNvSpPr/>
          <p:nvPr/>
        </p:nvSpPr>
        <p:spPr>
          <a:xfrm>
            <a:off x="4648320" y="2362320"/>
            <a:ext cx="838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1   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7" name="Line 9"/>
          <p:cNvSpPr/>
          <p:nvPr/>
        </p:nvSpPr>
        <p:spPr>
          <a:xfrm>
            <a:off x="2209680" y="2590920"/>
            <a:ext cx="243864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8" name="Line 10"/>
          <p:cNvSpPr/>
          <p:nvPr/>
        </p:nvSpPr>
        <p:spPr>
          <a:xfrm>
            <a:off x="2133720" y="3124080"/>
            <a:ext cx="243828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Text Box 2"/>
          <p:cNvSpPr/>
          <p:nvPr/>
        </p:nvSpPr>
        <p:spPr>
          <a:xfrm>
            <a:off x="685800" y="8431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1. Wyznacz dziedzinę funkcj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2" name="Object 3"/>
              <p:cNvSpPr txBox="1"/>
              <p:nvPr/>
            </p:nvSpPr>
            <p:spPr>
              <a:xfrm>
                <a:off x="1293840" y="2151000"/>
                <a:ext cx="6265800" cy="376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x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rad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den>
                        </m:f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x</m:t>
                                    </m:r>
                                  </m:e>
                                </m:rad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3" name="AutoShape 4"/>
          <p:cNvSpPr/>
          <p:nvPr/>
        </p:nvSpPr>
        <p:spPr>
          <a:xfrm>
            <a:off x="7775640" y="260280"/>
            <a:ext cx="1044360" cy="811440"/>
          </a:xfrm>
          <a:custGeom>
            <a:avLst/>
            <a:gdLst>
              <a:gd name="textAreaLeft" fmla="*/ 52560 w 1044360"/>
              <a:gd name="textAreaRight" fmla="*/ 991800 w 1044360"/>
              <a:gd name="textAreaTop" fmla="*/ 52560 h 811440"/>
              <a:gd name="textAreaBottom" fmla="*/ 758880 h 811440"/>
            </a:gdLst>
            <a:ahLst/>
            <a:rect l="textAreaLeft" t="textAreaTop" r="textAreaRight" b="textAreaBottom"/>
            <a:pathLst>
              <a:path w="27797" h="21600">
                <a:moveTo>
                  <a:pt x="0" y="0"/>
                </a:moveTo>
                <a:lnTo>
                  <a:pt x="27797" y="0"/>
                </a:lnTo>
                <a:lnTo>
                  <a:pt x="27797" y="21600"/>
                </a:lnTo>
                <a:lnTo>
                  <a:pt x="0" y="21600"/>
                </a:lnTo>
                <a:close/>
              </a:path>
              <a:path fill="lightenLess" w="27797" h="21600">
                <a:moveTo>
                  <a:pt x="0" y="0"/>
                </a:moveTo>
                <a:lnTo>
                  <a:pt x="27797" y="0"/>
                </a:lnTo>
                <a:lnTo>
                  <a:pt x="26397" y="1400"/>
                </a:lnTo>
                <a:lnTo>
                  <a:pt x="1400" y="1400"/>
                </a:lnTo>
                <a:close/>
              </a:path>
              <a:path fill="darken" w="27797" h="21600">
                <a:moveTo>
                  <a:pt x="27797" y="0"/>
                </a:moveTo>
                <a:lnTo>
                  <a:pt x="27797" y="21600"/>
                </a:lnTo>
                <a:lnTo>
                  <a:pt x="26397" y="20200"/>
                </a:lnTo>
                <a:lnTo>
                  <a:pt x="26397" y="1400"/>
                </a:lnTo>
                <a:close/>
              </a:path>
              <a:path fill="darkenLess" w="27797" h="21600">
                <a:moveTo>
                  <a:pt x="2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7" y="20200"/>
                </a:lnTo>
                <a:close/>
              </a:path>
              <a:path fill="lighten" w="2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7" h="21600">
                <a:moveTo>
                  <a:pt x="6892" y="7493"/>
                </a:moveTo>
                <a:lnTo>
                  <a:pt x="10400" y="7493"/>
                </a:lnTo>
                <a:lnTo>
                  <a:pt x="10400" y="12828"/>
                </a:lnTo>
                <a:cubicBezTo>
                  <a:pt x="10400" y="13751"/>
                  <a:pt x="11201" y="14482"/>
                  <a:pt x="12236" y="14482"/>
                </a:cubicBezTo>
                <a:lnTo>
                  <a:pt x="13899" y="14482"/>
                </a:lnTo>
                <a:cubicBezTo>
                  <a:pt x="14934" y="14482"/>
                  <a:pt x="15735" y="13751"/>
                  <a:pt x="15735" y="12828"/>
                </a:cubicBezTo>
                <a:lnTo>
                  <a:pt x="15735" y="7493"/>
                </a:lnTo>
                <a:lnTo>
                  <a:pt x="13899" y="7493"/>
                </a:lnTo>
                <a:lnTo>
                  <a:pt x="17406" y="3985"/>
                </a:lnTo>
                <a:lnTo>
                  <a:pt x="21079" y="7493"/>
                </a:lnTo>
                <a:lnTo>
                  <a:pt x="19243" y="7493"/>
                </a:lnTo>
                <a:lnTo>
                  <a:pt x="19243" y="12828"/>
                </a:lnTo>
                <a:cubicBezTo>
                  <a:pt x="19243" y="15596"/>
                  <a:pt x="16666" y="18155"/>
                  <a:pt x="13899" y="18155"/>
                </a:cubicBezTo>
                <a:lnTo>
                  <a:pt x="12236" y="18155"/>
                </a:lnTo>
                <a:cubicBezTo>
                  <a:pt x="9469" y="18155"/>
                  <a:pt x="6892" y="15596"/>
                  <a:pt x="6892" y="1282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Text Box 2"/>
          <p:cNvSpPr/>
          <p:nvPr/>
        </p:nvSpPr>
        <p:spPr>
          <a:xfrm>
            <a:off x="1187280" y="1351080"/>
            <a:ext cx="7086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2. Podaj przykład (graf, tabelka, wykres) funkcji, która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- jest „na” i nie jest różnowartościow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jest różnowartościowa i nie jest „na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- jest różnowartościowa i jest „na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- nie jest różnowartościowa i nie jest „na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5" name="AutoShape 3"/>
          <p:cNvSpPr/>
          <p:nvPr/>
        </p:nvSpPr>
        <p:spPr>
          <a:xfrm>
            <a:off x="7775640" y="260280"/>
            <a:ext cx="1044360" cy="811440"/>
          </a:xfrm>
          <a:custGeom>
            <a:avLst/>
            <a:gdLst>
              <a:gd name="textAreaLeft" fmla="*/ 52560 w 1044360"/>
              <a:gd name="textAreaRight" fmla="*/ 991800 w 1044360"/>
              <a:gd name="textAreaTop" fmla="*/ 52560 h 811440"/>
              <a:gd name="textAreaBottom" fmla="*/ 758880 h 811440"/>
            </a:gdLst>
            <a:ahLst/>
            <a:rect l="textAreaLeft" t="textAreaTop" r="textAreaRight" b="textAreaBottom"/>
            <a:pathLst>
              <a:path w="27797" h="21600">
                <a:moveTo>
                  <a:pt x="0" y="0"/>
                </a:moveTo>
                <a:lnTo>
                  <a:pt x="27797" y="0"/>
                </a:lnTo>
                <a:lnTo>
                  <a:pt x="27797" y="21600"/>
                </a:lnTo>
                <a:lnTo>
                  <a:pt x="0" y="21600"/>
                </a:lnTo>
                <a:close/>
              </a:path>
              <a:path fill="lightenLess" w="27797" h="21600">
                <a:moveTo>
                  <a:pt x="0" y="0"/>
                </a:moveTo>
                <a:lnTo>
                  <a:pt x="27797" y="0"/>
                </a:lnTo>
                <a:lnTo>
                  <a:pt x="26397" y="1400"/>
                </a:lnTo>
                <a:lnTo>
                  <a:pt x="1400" y="1400"/>
                </a:lnTo>
                <a:close/>
              </a:path>
              <a:path fill="darken" w="27797" h="21600">
                <a:moveTo>
                  <a:pt x="27797" y="0"/>
                </a:moveTo>
                <a:lnTo>
                  <a:pt x="27797" y="21600"/>
                </a:lnTo>
                <a:lnTo>
                  <a:pt x="26397" y="20200"/>
                </a:lnTo>
                <a:lnTo>
                  <a:pt x="26397" y="1400"/>
                </a:lnTo>
                <a:close/>
              </a:path>
              <a:path fill="darkenLess" w="27797" h="21600">
                <a:moveTo>
                  <a:pt x="2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7" y="20200"/>
                </a:lnTo>
                <a:close/>
              </a:path>
              <a:path fill="lighten" w="2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7" h="21600">
                <a:moveTo>
                  <a:pt x="6892" y="7493"/>
                </a:moveTo>
                <a:lnTo>
                  <a:pt x="10400" y="7493"/>
                </a:lnTo>
                <a:lnTo>
                  <a:pt x="10400" y="12828"/>
                </a:lnTo>
                <a:cubicBezTo>
                  <a:pt x="10400" y="13751"/>
                  <a:pt x="11201" y="14482"/>
                  <a:pt x="12236" y="14482"/>
                </a:cubicBezTo>
                <a:lnTo>
                  <a:pt x="13899" y="14482"/>
                </a:lnTo>
                <a:cubicBezTo>
                  <a:pt x="14934" y="14482"/>
                  <a:pt x="15735" y="13751"/>
                  <a:pt x="15735" y="12828"/>
                </a:cubicBezTo>
                <a:lnTo>
                  <a:pt x="15735" y="7493"/>
                </a:lnTo>
                <a:lnTo>
                  <a:pt x="13899" y="7493"/>
                </a:lnTo>
                <a:lnTo>
                  <a:pt x="17406" y="3985"/>
                </a:lnTo>
                <a:lnTo>
                  <a:pt x="21079" y="7493"/>
                </a:lnTo>
                <a:lnTo>
                  <a:pt x="19243" y="7493"/>
                </a:lnTo>
                <a:lnTo>
                  <a:pt x="19243" y="12828"/>
                </a:lnTo>
                <a:cubicBezTo>
                  <a:pt x="19243" y="15596"/>
                  <a:pt x="16666" y="18155"/>
                  <a:pt x="13899" y="18155"/>
                </a:cubicBezTo>
                <a:lnTo>
                  <a:pt x="12236" y="18155"/>
                </a:lnTo>
                <a:cubicBezTo>
                  <a:pt x="9469" y="18155"/>
                  <a:pt x="6892" y="15596"/>
                  <a:pt x="6892" y="1282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7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8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9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0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1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2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3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4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5" name="AutoShape 11"/>
          <p:cNvSpPr/>
          <p:nvPr/>
        </p:nvSpPr>
        <p:spPr>
          <a:xfrm>
            <a:off x="7775640" y="260280"/>
            <a:ext cx="1044360" cy="811440"/>
          </a:xfrm>
          <a:custGeom>
            <a:avLst/>
            <a:gdLst>
              <a:gd name="textAreaLeft" fmla="*/ 52560 w 1044360"/>
              <a:gd name="textAreaRight" fmla="*/ 991800 w 1044360"/>
              <a:gd name="textAreaTop" fmla="*/ 52560 h 811440"/>
              <a:gd name="textAreaBottom" fmla="*/ 758880 h 811440"/>
            </a:gdLst>
            <a:ahLst/>
            <a:rect l="textAreaLeft" t="textAreaTop" r="textAreaRight" b="textAreaBottom"/>
            <a:pathLst>
              <a:path w="27797" h="21600">
                <a:moveTo>
                  <a:pt x="0" y="0"/>
                </a:moveTo>
                <a:lnTo>
                  <a:pt x="27797" y="0"/>
                </a:lnTo>
                <a:lnTo>
                  <a:pt x="27797" y="21600"/>
                </a:lnTo>
                <a:lnTo>
                  <a:pt x="0" y="21600"/>
                </a:lnTo>
                <a:close/>
              </a:path>
              <a:path fill="lightenLess" w="27797" h="21600">
                <a:moveTo>
                  <a:pt x="0" y="0"/>
                </a:moveTo>
                <a:lnTo>
                  <a:pt x="27797" y="0"/>
                </a:lnTo>
                <a:lnTo>
                  <a:pt x="26397" y="1400"/>
                </a:lnTo>
                <a:lnTo>
                  <a:pt x="1400" y="1400"/>
                </a:lnTo>
                <a:close/>
              </a:path>
              <a:path fill="darken" w="27797" h="21600">
                <a:moveTo>
                  <a:pt x="27797" y="0"/>
                </a:moveTo>
                <a:lnTo>
                  <a:pt x="27797" y="21600"/>
                </a:lnTo>
                <a:lnTo>
                  <a:pt x="26397" y="20200"/>
                </a:lnTo>
                <a:lnTo>
                  <a:pt x="26397" y="1400"/>
                </a:lnTo>
                <a:close/>
              </a:path>
              <a:path fill="darkenLess" w="27797" h="21600">
                <a:moveTo>
                  <a:pt x="2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7" y="20200"/>
                </a:lnTo>
                <a:close/>
              </a:path>
              <a:path fill="lighten" w="2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7" h="21600">
                <a:moveTo>
                  <a:pt x="6892" y="7493"/>
                </a:moveTo>
                <a:lnTo>
                  <a:pt x="10400" y="7493"/>
                </a:lnTo>
                <a:lnTo>
                  <a:pt x="10400" y="12828"/>
                </a:lnTo>
                <a:cubicBezTo>
                  <a:pt x="10400" y="13751"/>
                  <a:pt x="11201" y="14482"/>
                  <a:pt x="12236" y="14482"/>
                </a:cubicBezTo>
                <a:lnTo>
                  <a:pt x="13899" y="14482"/>
                </a:lnTo>
                <a:cubicBezTo>
                  <a:pt x="14934" y="14482"/>
                  <a:pt x="15735" y="13751"/>
                  <a:pt x="15735" y="12828"/>
                </a:cubicBezTo>
                <a:lnTo>
                  <a:pt x="15735" y="7493"/>
                </a:lnTo>
                <a:lnTo>
                  <a:pt x="13899" y="7493"/>
                </a:lnTo>
                <a:lnTo>
                  <a:pt x="17406" y="3985"/>
                </a:lnTo>
                <a:lnTo>
                  <a:pt x="21079" y="7493"/>
                </a:lnTo>
                <a:lnTo>
                  <a:pt x="19243" y="7493"/>
                </a:lnTo>
                <a:lnTo>
                  <a:pt x="19243" y="12828"/>
                </a:lnTo>
                <a:cubicBezTo>
                  <a:pt x="19243" y="15596"/>
                  <a:pt x="16666" y="18155"/>
                  <a:pt x="13899" y="18155"/>
                </a:cubicBezTo>
                <a:lnTo>
                  <a:pt x="12236" y="18155"/>
                </a:lnTo>
                <a:cubicBezTo>
                  <a:pt x="9469" y="18155"/>
                  <a:pt x="6892" y="15596"/>
                  <a:pt x="6892" y="1282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6" name="Text Box 12"/>
          <p:cNvSpPr/>
          <p:nvPr/>
        </p:nvSpPr>
        <p:spPr>
          <a:xfrm>
            <a:off x="1187280" y="1536840"/>
            <a:ext cx="7086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3. Na podstawie wykresu (na tablicy) odczytaj własności funkcji - dziedzinę, zbiór wartości, monotoniczność, parzystość, okresowość, m-ca zerowe, wartości (dodatnie, ujemne),  obraz i przeciwobraz (zadanych zbiorów), czy jest „na”, różnowartościowa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8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9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0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1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2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3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4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5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6" name="Text Box 11"/>
          <p:cNvSpPr/>
          <p:nvPr/>
        </p:nvSpPr>
        <p:spPr>
          <a:xfrm>
            <a:off x="900000" y="1440000"/>
            <a:ext cx="7632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4. Dany wykres funkcji (tablica) przekształć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- w symetrii względem osi OX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- w symetrii względem osi O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- w symetrii względem punktu  OO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- w symetrii względem dwusiecznej kąta  XOY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- w translacji o wektor [3,-1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7" name="AutoShape 12"/>
          <p:cNvSpPr/>
          <p:nvPr/>
        </p:nvSpPr>
        <p:spPr>
          <a:xfrm>
            <a:off x="7775640" y="260280"/>
            <a:ext cx="1044360" cy="811440"/>
          </a:xfrm>
          <a:custGeom>
            <a:avLst/>
            <a:gdLst>
              <a:gd name="textAreaLeft" fmla="*/ 52560 w 1044360"/>
              <a:gd name="textAreaRight" fmla="*/ 991800 w 1044360"/>
              <a:gd name="textAreaTop" fmla="*/ 52560 h 811440"/>
              <a:gd name="textAreaBottom" fmla="*/ 758880 h 811440"/>
            </a:gdLst>
            <a:ahLst/>
            <a:rect l="textAreaLeft" t="textAreaTop" r="textAreaRight" b="textAreaBottom"/>
            <a:pathLst>
              <a:path w="27797" h="21600">
                <a:moveTo>
                  <a:pt x="0" y="0"/>
                </a:moveTo>
                <a:lnTo>
                  <a:pt x="27797" y="0"/>
                </a:lnTo>
                <a:lnTo>
                  <a:pt x="27797" y="21600"/>
                </a:lnTo>
                <a:lnTo>
                  <a:pt x="0" y="21600"/>
                </a:lnTo>
                <a:close/>
              </a:path>
              <a:path fill="lightenLess" w="27797" h="21600">
                <a:moveTo>
                  <a:pt x="0" y="0"/>
                </a:moveTo>
                <a:lnTo>
                  <a:pt x="27797" y="0"/>
                </a:lnTo>
                <a:lnTo>
                  <a:pt x="26397" y="1400"/>
                </a:lnTo>
                <a:lnTo>
                  <a:pt x="1400" y="1400"/>
                </a:lnTo>
                <a:close/>
              </a:path>
              <a:path fill="darken" w="27797" h="21600">
                <a:moveTo>
                  <a:pt x="27797" y="0"/>
                </a:moveTo>
                <a:lnTo>
                  <a:pt x="27797" y="21600"/>
                </a:lnTo>
                <a:lnTo>
                  <a:pt x="26397" y="20200"/>
                </a:lnTo>
                <a:lnTo>
                  <a:pt x="26397" y="1400"/>
                </a:lnTo>
                <a:close/>
              </a:path>
              <a:path fill="darkenLess" w="27797" h="21600">
                <a:moveTo>
                  <a:pt x="2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7" y="20200"/>
                </a:lnTo>
                <a:close/>
              </a:path>
              <a:path fill="lighten" w="2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7" h="21600">
                <a:moveTo>
                  <a:pt x="6892" y="7493"/>
                </a:moveTo>
                <a:lnTo>
                  <a:pt x="10400" y="7493"/>
                </a:lnTo>
                <a:lnTo>
                  <a:pt x="10400" y="12828"/>
                </a:lnTo>
                <a:cubicBezTo>
                  <a:pt x="10400" y="13751"/>
                  <a:pt x="11201" y="14482"/>
                  <a:pt x="12236" y="14482"/>
                </a:cubicBezTo>
                <a:lnTo>
                  <a:pt x="13899" y="14482"/>
                </a:lnTo>
                <a:cubicBezTo>
                  <a:pt x="14934" y="14482"/>
                  <a:pt x="15735" y="13751"/>
                  <a:pt x="15735" y="12828"/>
                </a:cubicBezTo>
                <a:lnTo>
                  <a:pt x="15735" y="7493"/>
                </a:lnTo>
                <a:lnTo>
                  <a:pt x="13899" y="7493"/>
                </a:lnTo>
                <a:lnTo>
                  <a:pt x="17406" y="3985"/>
                </a:lnTo>
                <a:lnTo>
                  <a:pt x="21079" y="7493"/>
                </a:lnTo>
                <a:lnTo>
                  <a:pt x="19243" y="7493"/>
                </a:lnTo>
                <a:lnTo>
                  <a:pt x="19243" y="12828"/>
                </a:lnTo>
                <a:cubicBezTo>
                  <a:pt x="19243" y="15596"/>
                  <a:pt x="16666" y="18155"/>
                  <a:pt x="13899" y="18155"/>
                </a:cubicBezTo>
                <a:lnTo>
                  <a:pt x="12236" y="18155"/>
                </a:lnTo>
                <a:cubicBezTo>
                  <a:pt x="9469" y="18155"/>
                  <a:pt x="6892" y="15596"/>
                  <a:pt x="6892" y="1282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9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0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1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2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3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4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5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6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7" name="AutoShape 12"/>
          <p:cNvSpPr/>
          <p:nvPr/>
        </p:nvSpPr>
        <p:spPr>
          <a:xfrm>
            <a:off x="7775640" y="260280"/>
            <a:ext cx="1044360" cy="811440"/>
          </a:xfrm>
          <a:custGeom>
            <a:avLst/>
            <a:gdLst>
              <a:gd name="textAreaLeft" fmla="*/ 52560 w 1044360"/>
              <a:gd name="textAreaRight" fmla="*/ 991800 w 1044360"/>
              <a:gd name="textAreaTop" fmla="*/ 52560 h 811440"/>
              <a:gd name="textAreaBottom" fmla="*/ 758880 h 811440"/>
            </a:gdLst>
            <a:ahLst/>
            <a:rect l="textAreaLeft" t="textAreaTop" r="textAreaRight" b="textAreaBottom"/>
            <a:pathLst>
              <a:path w="27797" h="21600">
                <a:moveTo>
                  <a:pt x="0" y="0"/>
                </a:moveTo>
                <a:lnTo>
                  <a:pt x="27797" y="0"/>
                </a:lnTo>
                <a:lnTo>
                  <a:pt x="27797" y="21600"/>
                </a:lnTo>
                <a:lnTo>
                  <a:pt x="0" y="21600"/>
                </a:lnTo>
                <a:close/>
              </a:path>
              <a:path fill="lightenLess" w="27797" h="21600">
                <a:moveTo>
                  <a:pt x="0" y="0"/>
                </a:moveTo>
                <a:lnTo>
                  <a:pt x="27797" y="0"/>
                </a:lnTo>
                <a:lnTo>
                  <a:pt x="26397" y="1400"/>
                </a:lnTo>
                <a:lnTo>
                  <a:pt x="1400" y="1400"/>
                </a:lnTo>
                <a:close/>
              </a:path>
              <a:path fill="darken" w="27797" h="21600">
                <a:moveTo>
                  <a:pt x="27797" y="0"/>
                </a:moveTo>
                <a:lnTo>
                  <a:pt x="27797" y="21600"/>
                </a:lnTo>
                <a:lnTo>
                  <a:pt x="26397" y="20200"/>
                </a:lnTo>
                <a:lnTo>
                  <a:pt x="26397" y="1400"/>
                </a:lnTo>
                <a:close/>
              </a:path>
              <a:path fill="darkenLess" w="27797" h="21600">
                <a:moveTo>
                  <a:pt x="2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7" y="20200"/>
                </a:lnTo>
                <a:close/>
              </a:path>
              <a:path fill="lighten" w="2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7" h="21600">
                <a:moveTo>
                  <a:pt x="6892" y="7493"/>
                </a:moveTo>
                <a:lnTo>
                  <a:pt x="10400" y="7493"/>
                </a:lnTo>
                <a:lnTo>
                  <a:pt x="10400" y="12828"/>
                </a:lnTo>
                <a:cubicBezTo>
                  <a:pt x="10400" y="13751"/>
                  <a:pt x="11201" y="14482"/>
                  <a:pt x="12236" y="14482"/>
                </a:cubicBezTo>
                <a:lnTo>
                  <a:pt x="13899" y="14482"/>
                </a:lnTo>
                <a:cubicBezTo>
                  <a:pt x="14934" y="14482"/>
                  <a:pt x="15735" y="13751"/>
                  <a:pt x="15735" y="12828"/>
                </a:cubicBezTo>
                <a:lnTo>
                  <a:pt x="15735" y="7493"/>
                </a:lnTo>
                <a:lnTo>
                  <a:pt x="13899" y="7493"/>
                </a:lnTo>
                <a:lnTo>
                  <a:pt x="17406" y="3985"/>
                </a:lnTo>
                <a:lnTo>
                  <a:pt x="21079" y="7493"/>
                </a:lnTo>
                <a:lnTo>
                  <a:pt x="19243" y="7493"/>
                </a:lnTo>
                <a:lnTo>
                  <a:pt x="19243" y="12828"/>
                </a:lnTo>
                <a:cubicBezTo>
                  <a:pt x="19243" y="15596"/>
                  <a:pt x="16666" y="18155"/>
                  <a:pt x="13899" y="18155"/>
                </a:cubicBezTo>
                <a:lnTo>
                  <a:pt x="12236" y="18155"/>
                </a:lnTo>
                <a:cubicBezTo>
                  <a:pt x="9469" y="18155"/>
                  <a:pt x="6892" y="15596"/>
                  <a:pt x="6892" y="1282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8" name="Text Box 13"/>
          <p:cNvSpPr/>
          <p:nvPr/>
        </p:nvSpPr>
        <p:spPr>
          <a:xfrm>
            <a:off x="900000" y="1440000"/>
            <a:ext cx="763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5. Zbadaj parzystość funkcj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9" name="Object 14"/>
              <p:cNvSpPr txBox="1"/>
              <p:nvPr/>
            </p:nvSpPr>
            <p:spPr>
              <a:xfrm>
                <a:off x="2529000" y="2276640"/>
                <a:ext cx="3914640" cy="31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1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2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3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4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5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6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7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8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9" name="Object 11"/>
              <p:cNvSpPr txBox="1"/>
              <p:nvPr/>
            </p:nvSpPr>
            <p:spPr>
              <a:xfrm>
                <a:off x="2340000" y="2155680"/>
                <a:ext cx="4084560" cy="408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30" name="Text Box 12"/>
          <p:cNvSpPr/>
          <p:nvPr/>
        </p:nvSpPr>
        <p:spPr>
          <a:xfrm>
            <a:off x="900000" y="1440000"/>
            <a:ext cx="763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6. Zbadaj monotoniczność funkcj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1" name="AutoShape 13"/>
          <p:cNvSpPr/>
          <p:nvPr/>
        </p:nvSpPr>
        <p:spPr>
          <a:xfrm>
            <a:off x="7775640" y="260280"/>
            <a:ext cx="1044360" cy="811440"/>
          </a:xfrm>
          <a:custGeom>
            <a:avLst/>
            <a:gdLst>
              <a:gd name="textAreaLeft" fmla="*/ 52560 w 1044360"/>
              <a:gd name="textAreaRight" fmla="*/ 991800 w 1044360"/>
              <a:gd name="textAreaTop" fmla="*/ 52560 h 811440"/>
              <a:gd name="textAreaBottom" fmla="*/ 758880 h 811440"/>
            </a:gdLst>
            <a:ahLst/>
            <a:rect l="textAreaLeft" t="textAreaTop" r="textAreaRight" b="textAreaBottom"/>
            <a:pathLst>
              <a:path w="27797" h="21600">
                <a:moveTo>
                  <a:pt x="0" y="0"/>
                </a:moveTo>
                <a:lnTo>
                  <a:pt x="27797" y="0"/>
                </a:lnTo>
                <a:lnTo>
                  <a:pt x="27797" y="21600"/>
                </a:lnTo>
                <a:lnTo>
                  <a:pt x="0" y="21600"/>
                </a:lnTo>
                <a:close/>
              </a:path>
              <a:path fill="lightenLess" w="27797" h="21600">
                <a:moveTo>
                  <a:pt x="0" y="0"/>
                </a:moveTo>
                <a:lnTo>
                  <a:pt x="27797" y="0"/>
                </a:lnTo>
                <a:lnTo>
                  <a:pt x="26397" y="1400"/>
                </a:lnTo>
                <a:lnTo>
                  <a:pt x="1400" y="1400"/>
                </a:lnTo>
                <a:close/>
              </a:path>
              <a:path fill="darken" w="27797" h="21600">
                <a:moveTo>
                  <a:pt x="27797" y="0"/>
                </a:moveTo>
                <a:lnTo>
                  <a:pt x="27797" y="21600"/>
                </a:lnTo>
                <a:lnTo>
                  <a:pt x="26397" y="20200"/>
                </a:lnTo>
                <a:lnTo>
                  <a:pt x="26397" y="1400"/>
                </a:lnTo>
                <a:close/>
              </a:path>
              <a:path fill="darkenLess" w="27797" h="21600">
                <a:moveTo>
                  <a:pt x="2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7" y="20200"/>
                </a:lnTo>
                <a:close/>
              </a:path>
              <a:path fill="lighten" w="2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7" h="21600">
                <a:moveTo>
                  <a:pt x="6892" y="7493"/>
                </a:moveTo>
                <a:lnTo>
                  <a:pt x="10400" y="7493"/>
                </a:lnTo>
                <a:lnTo>
                  <a:pt x="10400" y="12828"/>
                </a:lnTo>
                <a:cubicBezTo>
                  <a:pt x="10400" y="13751"/>
                  <a:pt x="11201" y="14482"/>
                  <a:pt x="12236" y="14482"/>
                </a:cubicBezTo>
                <a:lnTo>
                  <a:pt x="13899" y="14482"/>
                </a:lnTo>
                <a:cubicBezTo>
                  <a:pt x="14934" y="14482"/>
                  <a:pt x="15735" y="13751"/>
                  <a:pt x="15735" y="12828"/>
                </a:cubicBezTo>
                <a:lnTo>
                  <a:pt x="15735" y="7493"/>
                </a:lnTo>
                <a:lnTo>
                  <a:pt x="13899" y="7493"/>
                </a:lnTo>
                <a:lnTo>
                  <a:pt x="17406" y="3985"/>
                </a:lnTo>
                <a:lnTo>
                  <a:pt x="21079" y="7493"/>
                </a:lnTo>
                <a:lnTo>
                  <a:pt x="19243" y="7493"/>
                </a:lnTo>
                <a:lnTo>
                  <a:pt x="19243" y="12828"/>
                </a:lnTo>
                <a:cubicBezTo>
                  <a:pt x="19243" y="15596"/>
                  <a:pt x="16666" y="18155"/>
                  <a:pt x="13899" y="18155"/>
                </a:cubicBezTo>
                <a:lnTo>
                  <a:pt x="12236" y="18155"/>
                </a:lnTo>
                <a:cubicBezTo>
                  <a:pt x="9469" y="18155"/>
                  <a:pt x="6892" y="15596"/>
                  <a:pt x="6892" y="1282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3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4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5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6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7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8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9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0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1" name="Object 11"/>
              <p:cNvSpPr txBox="1"/>
              <p:nvPr/>
            </p:nvSpPr>
            <p:spPr>
              <a:xfrm>
                <a:off x="1547640" y="2421000"/>
                <a:ext cx="6480360" cy="40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)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42" name="Text Box 12"/>
          <p:cNvSpPr/>
          <p:nvPr/>
        </p:nvSpPr>
        <p:spPr>
          <a:xfrm>
            <a:off x="900000" y="1440000"/>
            <a:ext cx="763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7. Dana jest funkcja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3" name="AutoShape 13"/>
          <p:cNvSpPr/>
          <p:nvPr/>
        </p:nvSpPr>
        <p:spPr>
          <a:xfrm>
            <a:off x="7775640" y="260280"/>
            <a:ext cx="1044360" cy="811440"/>
          </a:xfrm>
          <a:custGeom>
            <a:avLst/>
            <a:gdLst>
              <a:gd name="textAreaLeft" fmla="*/ 52560 w 1044360"/>
              <a:gd name="textAreaRight" fmla="*/ 991800 w 1044360"/>
              <a:gd name="textAreaTop" fmla="*/ 52560 h 811440"/>
              <a:gd name="textAreaBottom" fmla="*/ 758880 h 811440"/>
            </a:gdLst>
            <a:ahLst/>
            <a:rect l="textAreaLeft" t="textAreaTop" r="textAreaRight" b="textAreaBottom"/>
            <a:pathLst>
              <a:path w="27797" h="21600">
                <a:moveTo>
                  <a:pt x="0" y="0"/>
                </a:moveTo>
                <a:lnTo>
                  <a:pt x="27797" y="0"/>
                </a:lnTo>
                <a:lnTo>
                  <a:pt x="27797" y="21600"/>
                </a:lnTo>
                <a:lnTo>
                  <a:pt x="0" y="21600"/>
                </a:lnTo>
                <a:close/>
              </a:path>
              <a:path fill="lightenLess" w="27797" h="21600">
                <a:moveTo>
                  <a:pt x="0" y="0"/>
                </a:moveTo>
                <a:lnTo>
                  <a:pt x="27797" y="0"/>
                </a:lnTo>
                <a:lnTo>
                  <a:pt x="26397" y="1400"/>
                </a:lnTo>
                <a:lnTo>
                  <a:pt x="1400" y="1400"/>
                </a:lnTo>
                <a:close/>
              </a:path>
              <a:path fill="darken" w="27797" h="21600">
                <a:moveTo>
                  <a:pt x="27797" y="0"/>
                </a:moveTo>
                <a:lnTo>
                  <a:pt x="27797" y="21600"/>
                </a:lnTo>
                <a:lnTo>
                  <a:pt x="26397" y="20200"/>
                </a:lnTo>
                <a:lnTo>
                  <a:pt x="26397" y="1400"/>
                </a:lnTo>
                <a:close/>
              </a:path>
              <a:path fill="darkenLess" w="27797" h="21600">
                <a:moveTo>
                  <a:pt x="2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7" y="20200"/>
                </a:lnTo>
                <a:close/>
              </a:path>
              <a:path fill="lighten" w="2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7" h="21600">
                <a:moveTo>
                  <a:pt x="6892" y="7493"/>
                </a:moveTo>
                <a:lnTo>
                  <a:pt x="10400" y="7493"/>
                </a:lnTo>
                <a:lnTo>
                  <a:pt x="10400" y="12828"/>
                </a:lnTo>
                <a:cubicBezTo>
                  <a:pt x="10400" y="13751"/>
                  <a:pt x="11201" y="14482"/>
                  <a:pt x="12236" y="14482"/>
                </a:cubicBezTo>
                <a:lnTo>
                  <a:pt x="13899" y="14482"/>
                </a:lnTo>
                <a:cubicBezTo>
                  <a:pt x="14934" y="14482"/>
                  <a:pt x="15735" y="13751"/>
                  <a:pt x="15735" y="12828"/>
                </a:cubicBezTo>
                <a:lnTo>
                  <a:pt x="15735" y="7493"/>
                </a:lnTo>
                <a:lnTo>
                  <a:pt x="13899" y="7493"/>
                </a:lnTo>
                <a:lnTo>
                  <a:pt x="17406" y="3985"/>
                </a:lnTo>
                <a:lnTo>
                  <a:pt x="21079" y="7493"/>
                </a:lnTo>
                <a:lnTo>
                  <a:pt x="19243" y="7493"/>
                </a:lnTo>
                <a:lnTo>
                  <a:pt x="19243" y="12828"/>
                </a:lnTo>
                <a:cubicBezTo>
                  <a:pt x="19243" y="15596"/>
                  <a:pt x="16666" y="18155"/>
                  <a:pt x="13899" y="18155"/>
                </a:cubicBezTo>
                <a:lnTo>
                  <a:pt x="12236" y="18155"/>
                </a:lnTo>
                <a:cubicBezTo>
                  <a:pt x="9469" y="18155"/>
                  <a:pt x="6892" y="15596"/>
                  <a:pt x="6892" y="1282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4" name="Object 14"/>
              <p:cNvSpPr txBox="1"/>
              <p:nvPr/>
            </p:nvSpPr>
            <p:spPr>
              <a:xfrm>
                <a:off x="4425840" y="1341360"/>
                <a:ext cx="33498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5" name="Text Box 15"/>
          <p:cNvSpPr/>
          <p:nvPr/>
        </p:nvSpPr>
        <p:spPr>
          <a:xfrm>
            <a:off x="1116000" y="2133720"/>
            <a:ext cx="763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Wyznacz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7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8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9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0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1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2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3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4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5" name="Text Box 12"/>
          <p:cNvSpPr/>
          <p:nvPr/>
        </p:nvSpPr>
        <p:spPr>
          <a:xfrm>
            <a:off x="900000" y="1440000"/>
            <a:ext cx="763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8. Wyznacz miejsca zerowe funkcj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6" name="AutoShape 13"/>
          <p:cNvSpPr/>
          <p:nvPr/>
        </p:nvSpPr>
        <p:spPr>
          <a:xfrm>
            <a:off x="7775640" y="260280"/>
            <a:ext cx="1044360" cy="811440"/>
          </a:xfrm>
          <a:custGeom>
            <a:avLst/>
            <a:gdLst>
              <a:gd name="textAreaLeft" fmla="*/ 52560 w 1044360"/>
              <a:gd name="textAreaRight" fmla="*/ 991800 w 1044360"/>
              <a:gd name="textAreaTop" fmla="*/ 52560 h 811440"/>
              <a:gd name="textAreaBottom" fmla="*/ 758880 h 811440"/>
            </a:gdLst>
            <a:ahLst/>
            <a:rect l="textAreaLeft" t="textAreaTop" r="textAreaRight" b="textAreaBottom"/>
            <a:pathLst>
              <a:path w="27797" h="21600">
                <a:moveTo>
                  <a:pt x="0" y="0"/>
                </a:moveTo>
                <a:lnTo>
                  <a:pt x="27797" y="0"/>
                </a:lnTo>
                <a:lnTo>
                  <a:pt x="27797" y="21600"/>
                </a:lnTo>
                <a:lnTo>
                  <a:pt x="0" y="21600"/>
                </a:lnTo>
                <a:close/>
              </a:path>
              <a:path fill="lightenLess" w="27797" h="21600">
                <a:moveTo>
                  <a:pt x="0" y="0"/>
                </a:moveTo>
                <a:lnTo>
                  <a:pt x="27797" y="0"/>
                </a:lnTo>
                <a:lnTo>
                  <a:pt x="26397" y="1400"/>
                </a:lnTo>
                <a:lnTo>
                  <a:pt x="1400" y="1400"/>
                </a:lnTo>
                <a:close/>
              </a:path>
              <a:path fill="darken" w="27797" h="21600">
                <a:moveTo>
                  <a:pt x="27797" y="0"/>
                </a:moveTo>
                <a:lnTo>
                  <a:pt x="27797" y="21600"/>
                </a:lnTo>
                <a:lnTo>
                  <a:pt x="26397" y="20200"/>
                </a:lnTo>
                <a:lnTo>
                  <a:pt x="26397" y="1400"/>
                </a:lnTo>
                <a:close/>
              </a:path>
              <a:path fill="darkenLess" w="27797" h="21600">
                <a:moveTo>
                  <a:pt x="2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7" y="20200"/>
                </a:lnTo>
                <a:close/>
              </a:path>
              <a:path fill="lighten" w="2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7" h="21600">
                <a:moveTo>
                  <a:pt x="6892" y="7493"/>
                </a:moveTo>
                <a:lnTo>
                  <a:pt x="10400" y="7493"/>
                </a:lnTo>
                <a:lnTo>
                  <a:pt x="10400" y="12828"/>
                </a:lnTo>
                <a:cubicBezTo>
                  <a:pt x="10400" y="13751"/>
                  <a:pt x="11201" y="14482"/>
                  <a:pt x="12236" y="14482"/>
                </a:cubicBezTo>
                <a:lnTo>
                  <a:pt x="13899" y="14482"/>
                </a:lnTo>
                <a:cubicBezTo>
                  <a:pt x="14934" y="14482"/>
                  <a:pt x="15735" y="13751"/>
                  <a:pt x="15735" y="12828"/>
                </a:cubicBezTo>
                <a:lnTo>
                  <a:pt x="15735" y="7493"/>
                </a:lnTo>
                <a:lnTo>
                  <a:pt x="13899" y="7493"/>
                </a:lnTo>
                <a:lnTo>
                  <a:pt x="17406" y="3985"/>
                </a:lnTo>
                <a:lnTo>
                  <a:pt x="21079" y="7493"/>
                </a:lnTo>
                <a:lnTo>
                  <a:pt x="19243" y="7493"/>
                </a:lnTo>
                <a:lnTo>
                  <a:pt x="19243" y="12828"/>
                </a:lnTo>
                <a:cubicBezTo>
                  <a:pt x="19243" y="15596"/>
                  <a:pt x="16666" y="18155"/>
                  <a:pt x="13899" y="18155"/>
                </a:cubicBezTo>
                <a:lnTo>
                  <a:pt x="12236" y="18155"/>
                </a:lnTo>
                <a:cubicBezTo>
                  <a:pt x="9469" y="18155"/>
                  <a:pt x="6892" y="15596"/>
                  <a:pt x="6892" y="1282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7" name="Object 16"/>
              <p:cNvSpPr txBox="1"/>
              <p:nvPr/>
            </p:nvSpPr>
            <p:spPr>
              <a:xfrm>
                <a:off x="2284560" y="2155680"/>
                <a:ext cx="4197240" cy="408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|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Line 4"/>
          <p:cNvSpPr/>
          <p:nvPr/>
        </p:nvSpPr>
        <p:spPr>
          <a:xfrm flipV="1">
            <a:off x="1600200" y="1523880"/>
            <a:ext cx="0" cy="41148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0" name="Line 7"/>
          <p:cNvSpPr/>
          <p:nvPr/>
        </p:nvSpPr>
        <p:spPr>
          <a:xfrm>
            <a:off x="990720" y="5257800"/>
            <a:ext cx="487656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1" name="Arc 14"/>
          <p:cNvSpPr/>
          <p:nvPr/>
        </p:nvSpPr>
        <p:spPr>
          <a:xfrm>
            <a:off x="1295280" y="2060640"/>
            <a:ext cx="3581640" cy="3578040"/>
          </a:xfrm>
          <a:custGeom>
            <a:avLst/>
            <a:gdLst>
              <a:gd name="textAreaLeft" fmla="*/ 0 w 3581640"/>
              <a:gd name="textAreaRight" fmla="*/ 3582000 w 3581640"/>
              <a:gd name="textAreaTop" fmla="*/ 0 h 3578040"/>
              <a:gd name="textAreaBottom" fmla="*/ 3578400 h 3578040"/>
            </a:gdLst>
            <a:ahLst/>
            <a:rect l="textAreaLeft" t="textAreaTop" r="textAreaRight" b="textAreaBottom"/>
            <a:pathLst>
              <a:path fill="none" w="21595" h="21600">
                <a:moveTo>
                  <a:pt x="-1" y="0"/>
                </a:moveTo>
                <a:cubicBezTo>
                  <a:pt x="11757" y="0"/>
                  <a:pt x="21355" y="9403"/>
                  <a:pt x="21595" y="21158"/>
                </a:cubicBezTo>
              </a:path>
              <a:path stroke="0" w="21595" h="21600">
                <a:moveTo>
                  <a:pt x="-1" y="0"/>
                </a:moveTo>
                <a:cubicBezTo>
                  <a:pt x="11757" y="0"/>
                  <a:pt x="21355" y="9403"/>
                  <a:pt x="21595" y="21158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2" name="Text Box 15"/>
          <p:cNvSpPr/>
          <p:nvPr/>
        </p:nvSpPr>
        <p:spPr>
          <a:xfrm>
            <a:off x="3962520" y="2743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=f(x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3" name="Text Box 16"/>
          <p:cNvSpPr/>
          <p:nvPr/>
        </p:nvSpPr>
        <p:spPr>
          <a:xfrm>
            <a:off x="457200" y="228600"/>
            <a:ext cx="1752480" cy="459720"/>
          </a:xfrm>
          <a:prstGeom prst="rect">
            <a:avLst/>
          </a:prstGeom>
          <a:solidFill>
            <a:srgbClr val="2e121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wykres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4" name="Text Box 18"/>
          <p:cNvSpPr/>
          <p:nvPr/>
        </p:nvSpPr>
        <p:spPr>
          <a:xfrm>
            <a:off x="838080" y="1523880"/>
            <a:ext cx="457200" cy="459720"/>
          </a:xfrm>
          <a:prstGeom prst="rect">
            <a:avLst/>
          </a:prstGeom>
          <a:solidFill>
            <a:srgbClr val="25090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5" name="Text Box 19"/>
          <p:cNvSpPr/>
          <p:nvPr/>
        </p:nvSpPr>
        <p:spPr>
          <a:xfrm>
            <a:off x="5562720" y="5486400"/>
            <a:ext cx="838080" cy="459720"/>
          </a:xfrm>
          <a:prstGeom prst="rect">
            <a:avLst/>
          </a:prstGeom>
          <a:solidFill>
            <a:srgbClr val="6600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2"/>
          <p:cNvSpPr/>
          <p:nvPr/>
        </p:nvSpPr>
        <p:spPr>
          <a:xfrm>
            <a:off x="380880" y="152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Przykł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1523880" y="914400"/>
            <a:ext cx="54864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8" name="Oval 4"/>
          <p:cNvSpPr/>
          <p:nvPr/>
        </p:nvSpPr>
        <p:spPr>
          <a:xfrm>
            <a:off x="1828800" y="1523880"/>
            <a:ext cx="1600200" cy="16002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9" name="Oval 5"/>
          <p:cNvSpPr/>
          <p:nvPr/>
        </p:nvSpPr>
        <p:spPr>
          <a:xfrm>
            <a:off x="5029200" y="1523880"/>
            <a:ext cx="1676520" cy="16002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0" name="Text Box 6"/>
          <p:cNvSpPr/>
          <p:nvPr/>
        </p:nvSpPr>
        <p:spPr>
          <a:xfrm>
            <a:off x="2286000" y="1523880"/>
            <a:ext cx="380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1" name="Text Box 7"/>
          <p:cNvSpPr/>
          <p:nvPr/>
        </p:nvSpPr>
        <p:spPr>
          <a:xfrm>
            <a:off x="5562720" y="1523880"/>
            <a:ext cx="685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!  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2" name="Line 10"/>
          <p:cNvSpPr/>
          <p:nvPr/>
        </p:nvSpPr>
        <p:spPr>
          <a:xfrm>
            <a:off x="2666880" y="1752480"/>
            <a:ext cx="289584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3" name="Line 11"/>
          <p:cNvSpPr/>
          <p:nvPr/>
        </p:nvSpPr>
        <p:spPr>
          <a:xfrm>
            <a:off x="2666880" y="2362320"/>
            <a:ext cx="289584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4" name="Line 12"/>
          <p:cNvSpPr/>
          <p:nvPr/>
        </p:nvSpPr>
        <p:spPr>
          <a:xfrm>
            <a:off x="2666880" y="2895480"/>
            <a:ext cx="289584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5" name="Text Box 13"/>
          <p:cNvSpPr/>
          <p:nvPr/>
        </p:nvSpPr>
        <p:spPr>
          <a:xfrm>
            <a:off x="609480" y="3352680"/>
            <a:ext cx="1219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f(a)=*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f(b)=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f(c)=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6" name="Text Box 14"/>
          <p:cNvSpPr/>
          <p:nvPr/>
        </p:nvSpPr>
        <p:spPr>
          <a:xfrm>
            <a:off x="609480" y="51814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o przyporządkowanie jest funkcją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7" name="Text Box 15"/>
          <p:cNvSpPr/>
          <p:nvPr/>
        </p:nvSpPr>
        <p:spPr>
          <a:xfrm>
            <a:off x="2286000" y="609480"/>
            <a:ext cx="380880" cy="459720"/>
          </a:xfrm>
          <a:prstGeom prst="rect">
            <a:avLst/>
          </a:prstGeom>
          <a:solidFill>
            <a:srgbClr val="6600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8" name="Text Box 16"/>
          <p:cNvSpPr/>
          <p:nvPr/>
        </p:nvSpPr>
        <p:spPr>
          <a:xfrm>
            <a:off x="5699160" y="60660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Oval 2"/>
          <p:cNvSpPr/>
          <p:nvPr/>
        </p:nvSpPr>
        <p:spPr>
          <a:xfrm>
            <a:off x="1523880" y="762120"/>
            <a:ext cx="1828800" cy="129528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0" name="Oval 3"/>
          <p:cNvSpPr/>
          <p:nvPr/>
        </p:nvSpPr>
        <p:spPr>
          <a:xfrm>
            <a:off x="5105520" y="762120"/>
            <a:ext cx="1981080" cy="129528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1905120" y="762120"/>
            <a:ext cx="5331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2438280" y="914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3" name="Text Box 6"/>
          <p:cNvSpPr/>
          <p:nvPr/>
        </p:nvSpPr>
        <p:spPr>
          <a:xfrm>
            <a:off x="2438280" y="137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4" name="Text Box 7"/>
          <p:cNvSpPr/>
          <p:nvPr/>
        </p:nvSpPr>
        <p:spPr>
          <a:xfrm>
            <a:off x="1905120" y="1143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5" name="Text Box 8"/>
          <p:cNvSpPr/>
          <p:nvPr/>
        </p:nvSpPr>
        <p:spPr>
          <a:xfrm>
            <a:off x="5334120" y="1143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1    2   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6" name="Line 9"/>
          <p:cNvSpPr/>
          <p:nvPr/>
        </p:nvSpPr>
        <p:spPr>
          <a:xfrm>
            <a:off x="2286000" y="1371600"/>
            <a:ext cx="30481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547" name="AutoShape 10"/>
          <p:cNvCxnSpPr>
            <a:stCxn id="545" idx="1"/>
            <a:endCxn id="543" idx="2"/>
          </p:cNvCxnSpPr>
          <p:nvPr/>
        </p:nvCxnSpPr>
        <p:spPr>
          <a:xfrm flipV="1" rot="10800000">
            <a:off x="2666160" y="1371240"/>
            <a:ext cx="2667960" cy="457920"/>
          </a:xfrm>
          <a:prstGeom prst="curvedConnector5">
            <a:avLst>
              <a:gd name="adj1" fmla="val 45708"/>
              <a:gd name="adj2" fmla="val 74980"/>
              <a:gd name="adj3" fmla="val 45708"/>
            </a:avLst>
          </a:prstGeom>
          <a:ln w="0">
            <a:noFill/>
          </a:ln>
        </p:spPr>
      </p:cxnSp>
      <p:sp>
        <p:nvSpPr>
          <p:cNvPr id="548" name="Line 16"/>
          <p:cNvSpPr/>
          <p:nvPr/>
        </p:nvSpPr>
        <p:spPr>
          <a:xfrm>
            <a:off x="2666880" y="1828800"/>
            <a:ext cx="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9" name="Freeform 19"/>
          <p:cNvSpPr/>
          <p:nvPr/>
        </p:nvSpPr>
        <p:spPr>
          <a:xfrm>
            <a:off x="2728800" y="1608120"/>
            <a:ext cx="2678400" cy="438120"/>
          </a:xfrm>
          <a:custGeom>
            <a:avLst/>
            <a:gdLst>
              <a:gd name="textAreaLeft" fmla="*/ 0 w 2678400"/>
              <a:gd name="textAreaRight" fmla="*/ 2678760 w 267840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w="1687" h="276">
                <a:moveTo>
                  <a:pt x="0" y="114"/>
                </a:moveTo>
                <a:cubicBezTo>
                  <a:pt x="43" y="128"/>
                  <a:pt x="8" y="113"/>
                  <a:pt x="41" y="138"/>
                </a:cubicBezTo>
                <a:cubicBezTo>
                  <a:pt x="57" y="150"/>
                  <a:pt x="89" y="171"/>
                  <a:pt x="89" y="171"/>
                </a:cubicBezTo>
                <a:cubicBezTo>
                  <a:pt x="124" y="224"/>
                  <a:pt x="209" y="233"/>
                  <a:pt x="268" y="244"/>
                </a:cubicBezTo>
                <a:cubicBezTo>
                  <a:pt x="347" y="259"/>
                  <a:pt x="523" y="258"/>
                  <a:pt x="560" y="260"/>
                </a:cubicBezTo>
                <a:cubicBezTo>
                  <a:pt x="649" y="264"/>
                  <a:pt x="738" y="271"/>
                  <a:pt x="827" y="276"/>
                </a:cubicBezTo>
                <a:cubicBezTo>
                  <a:pt x="1000" y="271"/>
                  <a:pt x="1157" y="272"/>
                  <a:pt x="1322" y="227"/>
                </a:cubicBezTo>
                <a:cubicBezTo>
                  <a:pt x="1354" y="218"/>
                  <a:pt x="1389" y="218"/>
                  <a:pt x="1419" y="203"/>
                </a:cubicBezTo>
                <a:cubicBezTo>
                  <a:pt x="1438" y="194"/>
                  <a:pt x="1458" y="189"/>
                  <a:pt x="1476" y="179"/>
                </a:cubicBezTo>
                <a:cubicBezTo>
                  <a:pt x="1510" y="160"/>
                  <a:pt x="1537" y="126"/>
                  <a:pt x="1573" y="114"/>
                </a:cubicBezTo>
                <a:cubicBezTo>
                  <a:pt x="1604" y="68"/>
                  <a:pt x="1662" y="53"/>
                  <a:pt x="1687" y="0"/>
                </a:cubicBezTo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0" name="Freeform 20"/>
          <p:cNvSpPr/>
          <p:nvPr/>
        </p:nvSpPr>
        <p:spPr>
          <a:xfrm>
            <a:off x="5407200" y="1635120"/>
            <a:ext cx="37800" cy="115920"/>
          </a:xfrm>
          <a:custGeom>
            <a:avLst/>
            <a:gdLst>
              <a:gd name="textAreaLeft" fmla="*/ 0 w 37800"/>
              <a:gd name="textAreaRight" fmla="*/ 38160 w 3780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24" h="73">
                <a:moveTo>
                  <a:pt x="0" y="0"/>
                </a:moveTo>
                <a:cubicBezTo>
                  <a:pt x="5" y="16"/>
                  <a:pt x="11" y="32"/>
                  <a:pt x="16" y="48"/>
                </a:cubicBezTo>
                <a:cubicBezTo>
                  <a:pt x="19" y="56"/>
                  <a:pt x="24" y="73"/>
                  <a:pt x="24" y="73"/>
                </a:cubicBezTo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1" name="Freeform 21"/>
          <p:cNvSpPr/>
          <p:nvPr/>
        </p:nvSpPr>
        <p:spPr>
          <a:xfrm>
            <a:off x="5265720" y="1622520"/>
            <a:ext cx="141480" cy="23760"/>
          </a:xfrm>
          <a:custGeom>
            <a:avLst/>
            <a:gdLst>
              <a:gd name="textAreaLeft" fmla="*/ 0 w 141480"/>
              <a:gd name="textAreaRight" fmla="*/ 141840 w 1414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89" h="15">
                <a:moveTo>
                  <a:pt x="89" y="0"/>
                </a:moveTo>
                <a:cubicBezTo>
                  <a:pt x="44" y="15"/>
                  <a:pt x="73" y="8"/>
                  <a:pt x="0" y="8"/>
                </a:cubicBezTo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2" name="Freeform 22"/>
          <p:cNvSpPr/>
          <p:nvPr/>
        </p:nvSpPr>
        <p:spPr>
          <a:xfrm>
            <a:off x="2819520" y="851040"/>
            <a:ext cx="2590560" cy="2808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1638" h="177">
                <a:moveTo>
                  <a:pt x="0" y="177"/>
                </a:moveTo>
                <a:cubicBezTo>
                  <a:pt x="80" y="124"/>
                  <a:pt x="191" y="145"/>
                  <a:pt x="284" y="137"/>
                </a:cubicBezTo>
                <a:cubicBezTo>
                  <a:pt x="331" y="121"/>
                  <a:pt x="381" y="113"/>
                  <a:pt x="430" y="105"/>
                </a:cubicBezTo>
                <a:cubicBezTo>
                  <a:pt x="491" y="82"/>
                  <a:pt x="567" y="86"/>
                  <a:pt x="632" y="80"/>
                </a:cubicBezTo>
                <a:cubicBezTo>
                  <a:pt x="1146" y="85"/>
                  <a:pt x="1300" y="0"/>
                  <a:pt x="1638" y="169"/>
                </a:cubicBezTo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3" name="Freeform 24"/>
          <p:cNvSpPr/>
          <p:nvPr/>
        </p:nvSpPr>
        <p:spPr>
          <a:xfrm>
            <a:off x="5291280" y="1042920"/>
            <a:ext cx="104760" cy="141480"/>
          </a:xfrm>
          <a:custGeom>
            <a:avLst/>
            <a:gdLst>
              <a:gd name="textAreaLeft" fmla="*/ 0 w 104760"/>
              <a:gd name="textAreaRight" fmla="*/ 105120 w 10476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66" h="89">
                <a:moveTo>
                  <a:pt x="48" y="0"/>
                </a:moveTo>
                <a:cubicBezTo>
                  <a:pt x="48" y="1"/>
                  <a:pt x="66" y="46"/>
                  <a:pt x="65" y="48"/>
                </a:cubicBezTo>
                <a:cubicBezTo>
                  <a:pt x="61" y="58"/>
                  <a:pt x="13" y="76"/>
                  <a:pt x="0" y="89"/>
                </a:cubicBezTo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4" name="Text Box 25"/>
          <p:cNvSpPr/>
          <p:nvPr/>
        </p:nvSpPr>
        <p:spPr>
          <a:xfrm>
            <a:off x="1752480" y="228600"/>
            <a:ext cx="457200" cy="459720"/>
          </a:xfrm>
          <a:prstGeom prst="rect">
            <a:avLst/>
          </a:prstGeom>
          <a:solidFill>
            <a:srgbClr val="56002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5" name="Text Box 26"/>
          <p:cNvSpPr/>
          <p:nvPr/>
        </p:nvSpPr>
        <p:spPr>
          <a:xfrm>
            <a:off x="5737320" y="297000"/>
            <a:ext cx="6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6" name="Text Box 27"/>
          <p:cNvSpPr/>
          <p:nvPr/>
        </p:nvSpPr>
        <p:spPr>
          <a:xfrm>
            <a:off x="3809880" y="1447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7" name="Text Box 28"/>
          <p:cNvSpPr/>
          <p:nvPr/>
        </p:nvSpPr>
        <p:spPr>
          <a:xfrm>
            <a:off x="1143000" y="2133720"/>
            <a:ext cx="5943600" cy="459720"/>
          </a:xfrm>
          <a:prstGeom prst="rect">
            <a:avLst/>
          </a:prstGeom>
          <a:solidFill>
            <a:srgbClr val="56002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g(a)=g(b)=g(c)=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8" name="Oval 29"/>
          <p:cNvSpPr/>
          <p:nvPr/>
        </p:nvSpPr>
        <p:spPr>
          <a:xfrm>
            <a:off x="1523880" y="3505320"/>
            <a:ext cx="1828800" cy="13716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9" name="Oval 30"/>
          <p:cNvSpPr/>
          <p:nvPr/>
        </p:nvSpPr>
        <p:spPr>
          <a:xfrm>
            <a:off x="5105520" y="3505320"/>
            <a:ext cx="1981080" cy="13716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0" name="Text Box 31"/>
          <p:cNvSpPr/>
          <p:nvPr/>
        </p:nvSpPr>
        <p:spPr>
          <a:xfrm>
            <a:off x="190512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1" name="Text Box 32"/>
          <p:cNvSpPr/>
          <p:nvPr/>
        </p:nvSpPr>
        <p:spPr>
          <a:xfrm>
            <a:off x="243828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2" name="Text Box 33"/>
          <p:cNvSpPr/>
          <p:nvPr/>
        </p:nvSpPr>
        <p:spPr>
          <a:xfrm>
            <a:off x="1905120" y="4191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3" name="Text Box 34"/>
          <p:cNvSpPr/>
          <p:nvPr/>
        </p:nvSpPr>
        <p:spPr>
          <a:xfrm>
            <a:off x="5396040" y="3733920"/>
            <a:ext cx="8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1   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3   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4" name="Text Box 35"/>
          <p:cNvSpPr/>
          <p:nvPr/>
        </p:nvSpPr>
        <p:spPr>
          <a:xfrm>
            <a:off x="6248520" y="3962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5" name="Line 36"/>
          <p:cNvSpPr/>
          <p:nvPr/>
        </p:nvSpPr>
        <p:spPr>
          <a:xfrm>
            <a:off x="2209680" y="3962520"/>
            <a:ext cx="318636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6" name="Line 38"/>
          <p:cNvSpPr/>
          <p:nvPr/>
        </p:nvSpPr>
        <p:spPr>
          <a:xfrm>
            <a:off x="2286000" y="4419720"/>
            <a:ext cx="311004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7" name="Text Box 39"/>
          <p:cNvSpPr/>
          <p:nvPr/>
        </p:nvSpPr>
        <p:spPr>
          <a:xfrm>
            <a:off x="838080" y="35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8" name="Text Box 40"/>
          <p:cNvSpPr/>
          <p:nvPr/>
        </p:nvSpPr>
        <p:spPr>
          <a:xfrm>
            <a:off x="7391520" y="3505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9" name="Text Box 41"/>
          <p:cNvSpPr/>
          <p:nvPr/>
        </p:nvSpPr>
        <p:spPr>
          <a:xfrm>
            <a:off x="1143000" y="51814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o przyporządkowanie nie jest funkcją, ponieważ nie każdemu elementowi ze zbioru X przyporządkowano element ze zbioru 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Oval 2"/>
          <p:cNvSpPr/>
          <p:nvPr/>
        </p:nvSpPr>
        <p:spPr>
          <a:xfrm>
            <a:off x="1600200" y="685800"/>
            <a:ext cx="1905120" cy="144792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1" name="Oval 3"/>
          <p:cNvSpPr/>
          <p:nvPr/>
        </p:nvSpPr>
        <p:spPr>
          <a:xfrm>
            <a:off x="5257800" y="685800"/>
            <a:ext cx="2209680" cy="16002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2" name="Text Box 4"/>
          <p:cNvSpPr/>
          <p:nvPr/>
        </p:nvSpPr>
        <p:spPr>
          <a:xfrm>
            <a:off x="1905120" y="990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3" name="Text Box 5"/>
          <p:cNvSpPr/>
          <p:nvPr/>
        </p:nvSpPr>
        <p:spPr>
          <a:xfrm>
            <a:off x="2438280" y="685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4" name="Text Box 6"/>
          <p:cNvSpPr/>
          <p:nvPr/>
        </p:nvSpPr>
        <p:spPr>
          <a:xfrm>
            <a:off x="2438280" y="1447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5" name="Text Box 7"/>
          <p:cNvSpPr/>
          <p:nvPr/>
        </p:nvSpPr>
        <p:spPr>
          <a:xfrm>
            <a:off x="5638680" y="990720"/>
            <a:ext cx="3049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1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6" name="Text Box 17"/>
          <p:cNvSpPr/>
          <p:nvPr/>
        </p:nvSpPr>
        <p:spPr>
          <a:xfrm>
            <a:off x="6324480" y="838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7" name="Line 18"/>
          <p:cNvSpPr/>
          <p:nvPr/>
        </p:nvSpPr>
        <p:spPr>
          <a:xfrm>
            <a:off x="2666880" y="838080"/>
            <a:ext cx="3657600" cy="1526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8" name="Line 20"/>
          <p:cNvSpPr/>
          <p:nvPr/>
        </p:nvSpPr>
        <p:spPr>
          <a:xfrm>
            <a:off x="2209680" y="1295280"/>
            <a:ext cx="34290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9" name="Line 21"/>
          <p:cNvSpPr/>
          <p:nvPr/>
        </p:nvSpPr>
        <p:spPr>
          <a:xfrm>
            <a:off x="2209680" y="1295280"/>
            <a:ext cx="3733920" cy="6098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0" name="Line 27"/>
          <p:cNvSpPr/>
          <p:nvPr/>
        </p:nvSpPr>
        <p:spPr>
          <a:xfrm>
            <a:off x="2666880" y="1600200"/>
            <a:ext cx="3276720" cy="3952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1" name="Text Box 30"/>
          <p:cNvSpPr/>
          <p:nvPr/>
        </p:nvSpPr>
        <p:spPr>
          <a:xfrm>
            <a:off x="5943600" y="1600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2" name="Text Box 31"/>
          <p:cNvSpPr/>
          <p:nvPr/>
        </p:nvSpPr>
        <p:spPr>
          <a:xfrm>
            <a:off x="914400" y="685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3" name="Text Box 32"/>
          <p:cNvSpPr/>
          <p:nvPr/>
        </p:nvSpPr>
        <p:spPr>
          <a:xfrm>
            <a:off x="7772400" y="685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4" name="Text Box 33"/>
          <p:cNvSpPr/>
          <p:nvPr/>
        </p:nvSpPr>
        <p:spPr>
          <a:xfrm>
            <a:off x="784080" y="2133720"/>
            <a:ext cx="184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5" name="Text Box 35"/>
          <p:cNvSpPr/>
          <p:nvPr/>
        </p:nvSpPr>
        <p:spPr>
          <a:xfrm>
            <a:off x="304920" y="25146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o przyporządkowanie nie jest funkcją, ponieważ 1 elementowi ze zbioru X przyporządkowano kilka elementów ze zbioru 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6" name="Line 37"/>
          <p:cNvSpPr/>
          <p:nvPr/>
        </p:nvSpPr>
        <p:spPr>
          <a:xfrm flipV="1">
            <a:off x="1600200" y="3503520"/>
            <a:ext cx="0" cy="19065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7" name="Line 38"/>
          <p:cNvSpPr/>
          <p:nvPr/>
        </p:nvSpPr>
        <p:spPr>
          <a:xfrm>
            <a:off x="457200" y="5181480"/>
            <a:ext cx="54864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588" name="AutoShape 39"/>
          <p:cNvCxnSpPr/>
          <p:nvPr/>
        </p:nvCxnSpPr>
        <p:spPr>
          <a:xfrm flipV="1">
            <a:off x="304920" y="4266360"/>
            <a:ext cx="915120" cy="1220040"/>
          </a:xfrm>
          <a:prstGeom prst="straightConnector1">
            <a:avLst/>
          </a:prstGeom>
          <a:ln w="9360">
            <a:solidFill>
              <a:srgbClr val="ffffcc"/>
            </a:solidFill>
            <a:miter/>
          </a:ln>
        </p:spPr>
      </p:cxnSp>
      <p:sp>
        <p:nvSpPr>
          <p:cNvPr id="589" name="Oval 42"/>
          <p:cNvSpPr/>
          <p:nvPr/>
        </p:nvSpPr>
        <p:spPr>
          <a:xfrm>
            <a:off x="1219320" y="4192560"/>
            <a:ext cx="152280" cy="7452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590" name="AutoShape 43"/>
          <p:cNvCxnSpPr/>
          <p:nvPr/>
        </p:nvCxnSpPr>
        <p:spPr>
          <a:xfrm>
            <a:off x="1371240" y="4724280"/>
            <a:ext cx="229320" cy="457920"/>
          </a:xfrm>
          <a:prstGeom prst="straightConnector1">
            <a:avLst/>
          </a:prstGeom>
          <a:ln w="9360">
            <a:solidFill>
              <a:srgbClr val="ffffcc"/>
            </a:solidFill>
            <a:miter/>
          </a:ln>
        </p:spPr>
      </p:cxnSp>
      <p:sp>
        <p:nvSpPr>
          <p:cNvPr id="591" name="Oval 44"/>
          <p:cNvSpPr/>
          <p:nvPr/>
        </p:nvSpPr>
        <p:spPr>
          <a:xfrm>
            <a:off x="1219320" y="4649760"/>
            <a:ext cx="152280" cy="745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2" name="Oval 48"/>
          <p:cNvSpPr/>
          <p:nvPr/>
        </p:nvSpPr>
        <p:spPr>
          <a:xfrm>
            <a:off x="1600200" y="5181480"/>
            <a:ext cx="76320" cy="1080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593" name="AutoShape 50"/>
          <p:cNvCxnSpPr/>
          <p:nvPr/>
        </p:nvCxnSpPr>
        <p:spPr>
          <a:xfrm flipV="1" rot="10800000">
            <a:off x="1675800" y="3732840"/>
            <a:ext cx="1296000" cy="533880"/>
          </a:xfrm>
          <a:prstGeom prst="curvedConnector5">
            <a:avLst>
              <a:gd name="adj1" fmla="val 49986"/>
              <a:gd name="adj2" fmla="val 50000"/>
              <a:gd name="adj3" fmla="val 49986"/>
            </a:avLst>
          </a:prstGeom>
          <a:ln w="9360">
            <a:solidFill>
              <a:srgbClr val="ffffcc"/>
            </a:solidFill>
            <a:miter/>
          </a:ln>
        </p:spPr>
      </p:cxnSp>
      <p:sp>
        <p:nvSpPr>
          <p:cNvPr id="594" name="Oval 51"/>
          <p:cNvSpPr/>
          <p:nvPr/>
        </p:nvSpPr>
        <p:spPr>
          <a:xfrm>
            <a:off x="1600200" y="4192560"/>
            <a:ext cx="76320" cy="745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5" name="Oval 52"/>
          <p:cNvSpPr/>
          <p:nvPr/>
        </p:nvSpPr>
        <p:spPr>
          <a:xfrm>
            <a:off x="2971800" y="3656160"/>
            <a:ext cx="152280" cy="7776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6" name="Line 56"/>
          <p:cNvSpPr/>
          <p:nvPr/>
        </p:nvSpPr>
        <p:spPr>
          <a:xfrm>
            <a:off x="3124080" y="4495680"/>
            <a:ext cx="28195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7" name="Oval 57"/>
          <p:cNvSpPr/>
          <p:nvPr/>
        </p:nvSpPr>
        <p:spPr>
          <a:xfrm>
            <a:off x="2971800" y="4421160"/>
            <a:ext cx="152280" cy="745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8" name="Text Box 59"/>
          <p:cNvSpPr/>
          <p:nvPr/>
        </p:nvSpPr>
        <p:spPr>
          <a:xfrm>
            <a:off x="457200" y="56386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o przyporządkowanie jest funkcją, ponieważ każdemu x przyporządkowany jest 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9" name="Text Box 60"/>
          <p:cNvSpPr/>
          <p:nvPr/>
        </p:nvSpPr>
        <p:spPr>
          <a:xfrm>
            <a:off x="968400" y="350352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0" name="Text Box 61"/>
          <p:cNvSpPr/>
          <p:nvPr/>
        </p:nvSpPr>
        <p:spPr>
          <a:xfrm>
            <a:off x="6324480" y="5029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WordArt 2"/>
          <p:cNvSpPr txBox="1"/>
          <p:nvPr/>
        </p:nvSpPr>
        <p:spPr>
          <a:xfrm>
            <a:off x="914400" y="457200"/>
            <a:ext cx="29718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7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02" name="Text Box 3"/>
          <p:cNvSpPr/>
          <p:nvPr/>
        </p:nvSpPr>
        <p:spPr>
          <a:xfrm>
            <a:off x="914400" y="2362320"/>
            <a:ext cx="75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 że funkcja f:X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Y jest "na", jeżeli każdy element y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Y przyporządkowany jest co najmniej jednemu elementowi x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X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Oval 2"/>
          <p:cNvSpPr/>
          <p:nvPr/>
        </p:nvSpPr>
        <p:spPr>
          <a:xfrm>
            <a:off x="1752480" y="457200"/>
            <a:ext cx="1905120" cy="16002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4" name="Oval 3"/>
          <p:cNvSpPr/>
          <p:nvPr/>
        </p:nvSpPr>
        <p:spPr>
          <a:xfrm>
            <a:off x="5410080" y="457200"/>
            <a:ext cx="1981440" cy="16002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5" name="Text Box 4"/>
          <p:cNvSpPr/>
          <p:nvPr/>
        </p:nvSpPr>
        <p:spPr>
          <a:xfrm>
            <a:off x="2362320" y="457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6" name="Text Box 5"/>
          <p:cNvSpPr/>
          <p:nvPr/>
        </p:nvSpPr>
        <p:spPr>
          <a:xfrm>
            <a:off x="28195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7" name="Text Box 6"/>
          <p:cNvSpPr/>
          <p:nvPr/>
        </p:nvSpPr>
        <p:spPr>
          <a:xfrm>
            <a:off x="2133720" y="1371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8" name="Text Box 7"/>
          <p:cNvSpPr/>
          <p:nvPr/>
        </p:nvSpPr>
        <p:spPr>
          <a:xfrm>
            <a:off x="6019920" y="685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9" name="Text Box 8"/>
          <p:cNvSpPr/>
          <p:nvPr/>
        </p:nvSpPr>
        <p:spPr>
          <a:xfrm>
            <a:off x="6400800" y="914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0" name="Text Box 9"/>
          <p:cNvSpPr/>
          <p:nvPr/>
        </p:nvSpPr>
        <p:spPr>
          <a:xfrm>
            <a:off x="5638680" y="1143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1" name="Text Box 10"/>
          <p:cNvSpPr/>
          <p:nvPr/>
        </p:nvSpPr>
        <p:spPr>
          <a:xfrm>
            <a:off x="6400800" y="1600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2" name="Line 11"/>
          <p:cNvSpPr/>
          <p:nvPr/>
        </p:nvSpPr>
        <p:spPr>
          <a:xfrm>
            <a:off x="2819520" y="685800"/>
            <a:ext cx="32004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3" name="Line 12"/>
          <p:cNvSpPr/>
          <p:nvPr/>
        </p:nvSpPr>
        <p:spPr>
          <a:xfrm flipV="1">
            <a:off x="3048120" y="914040"/>
            <a:ext cx="297180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4" name="Line 13"/>
          <p:cNvSpPr/>
          <p:nvPr/>
        </p:nvSpPr>
        <p:spPr>
          <a:xfrm>
            <a:off x="2514600" y="1600200"/>
            <a:ext cx="388620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5" name="Text Box 14"/>
          <p:cNvSpPr/>
          <p:nvPr/>
        </p:nvSpPr>
        <p:spPr>
          <a:xfrm>
            <a:off x="1219320" y="457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6" name="Text Box 15"/>
          <p:cNvSpPr/>
          <p:nvPr/>
        </p:nvSpPr>
        <p:spPr>
          <a:xfrm>
            <a:off x="7696080" y="457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7" name="Text Box 16"/>
          <p:cNvSpPr/>
          <p:nvPr/>
        </p:nvSpPr>
        <p:spPr>
          <a:xfrm>
            <a:off x="4419720" y="1143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8" name="Text Box 17"/>
          <p:cNvSpPr/>
          <p:nvPr/>
        </p:nvSpPr>
        <p:spPr>
          <a:xfrm>
            <a:off x="1219320" y="20574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o jest funkcja „w”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9" name="Oval 18"/>
          <p:cNvSpPr/>
          <p:nvPr/>
        </p:nvSpPr>
        <p:spPr>
          <a:xfrm>
            <a:off x="1752480" y="3048120"/>
            <a:ext cx="1905120" cy="175248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0" name="Oval 19"/>
          <p:cNvSpPr/>
          <p:nvPr/>
        </p:nvSpPr>
        <p:spPr>
          <a:xfrm>
            <a:off x="5410080" y="3048120"/>
            <a:ext cx="1981440" cy="175248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1" name="Text Box 20"/>
          <p:cNvSpPr/>
          <p:nvPr/>
        </p:nvSpPr>
        <p:spPr>
          <a:xfrm>
            <a:off x="281952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2" name="Text Box 21"/>
          <p:cNvSpPr/>
          <p:nvPr/>
        </p:nvSpPr>
        <p:spPr>
          <a:xfrm>
            <a:off x="2133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3" name="Text Box 22"/>
          <p:cNvSpPr/>
          <p:nvPr/>
        </p:nvSpPr>
        <p:spPr>
          <a:xfrm>
            <a:off x="25146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4" name="Text Box 23"/>
          <p:cNvSpPr/>
          <p:nvPr/>
        </p:nvSpPr>
        <p:spPr>
          <a:xfrm>
            <a:off x="6019920" y="3276720"/>
            <a:ext cx="6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5" name="Line 24"/>
          <p:cNvSpPr/>
          <p:nvPr/>
        </p:nvSpPr>
        <p:spPr>
          <a:xfrm>
            <a:off x="3048120" y="3276720"/>
            <a:ext cx="29718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6" name="Line 25"/>
          <p:cNvSpPr/>
          <p:nvPr/>
        </p:nvSpPr>
        <p:spPr>
          <a:xfrm flipV="1">
            <a:off x="2362320" y="3505320"/>
            <a:ext cx="3657600" cy="3808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7" name="Line 27"/>
          <p:cNvSpPr/>
          <p:nvPr/>
        </p:nvSpPr>
        <p:spPr>
          <a:xfrm flipV="1">
            <a:off x="2819520" y="4114440"/>
            <a:ext cx="3200400" cy="1666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8" name="Text Box 28"/>
          <p:cNvSpPr/>
          <p:nvPr/>
        </p:nvSpPr>
        <p:spPr>
          <a:xfrm>
            <a:off x="441972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9" name="Text Box 29"/>
          <p:cNvSpPr/>
          <p:nvPr/>
        </p:nvSpPr>
        <p:spPr>
          <a:xfrm>
            <a:off x="914400" y="3276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0" name="Text Box 30"/>
          <p:cNvSpPr/>
          <p:nvPr/>
        </p:nvSpPr>
        <p:spPr>
          <a:xfrm>
            <a:off x="7696080" y="3048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1" name="Text Box 31"/>
          <p:cNvSpPr/>
          <p:nvPr/>
        </p:nvSpPr>
        <p:spPr>
          <a:xfrm>
            <a:off x="1447920" y="51814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o jest funkcja „na”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8T17:31:02Z</dcterms:created>
  <dc:creator>AP</dc:creator>
  <dc:description/>
  <dc:language>en-US</dc:language>
  <cp:lastModifiedBy>IMK</cp:lastModifiedBy>
  <dcterms:modified xsi:type="dcterms:W3CDTF">2015-07-15T05:52:35Z</dcterms:modified>
  <cp:revision>98</cp:revision>
  <dc:subject/>
  <dc:title>FUNKCJA JEDNEJ ZMIENNEJ</dc:title>
</cp:coreProperties>
</file>